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media/image13.wmf" ContentType="image/x-wmf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14400" indent="-34272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320840" indent="-29196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78040" indent="-29196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FC13B-3F2A-4E0B-ABD1-CD7EF44F4506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144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144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24528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8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- Analysis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0 = ANALYSIS_MODEL ('example analysis model', $, .PLANE_FRAME., #101, 2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1 = ANALYSIS_METHOD_STATIC ('example analysis method', $, .ELASTIC_1ST_ORDER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58120" y="23184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05560" y="189216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160" y="57085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65280" y="677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69960" y="685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"/>
          <p:cNvCxnSpPr>
            <a:stCxn id="213" idx="0"/>
            <a:endCxn id="215" idx="4"/>
          </p:cNvCxnSpPr>
          <p:nvPr/>
        </p:nvCxnSpPr>
        <p:spPr>
          <a:xfrm flipH="1" flipV="1">
            <a:off x="745920" y="852120"/>
            <a:ext cx="8640" cy="4842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17" name=""/>
          <p:cNvCxnSpPr>
            <a:stCxn id="218" idx="0"/>
            <a:endCxn id="219" idx="4"/>
          </p:cNvCxnSpPr>
          <p:nvPr/>
        </p:nvCxnSpPr>
        <p:spPr>
          <a:xfrm flipV="1">
            <a:off x="3458880" y="2504880"/>
            <a:ext cx="1080" cy="948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8" name=""/>
          <p:cNvSpPr/>
          <p:nvPr/>
        </p:nvSpPr>
        <p:spPr>
          <a:xfrm>
            <a:off x="1824120" y="346716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382920" y="2338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54990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1" name=""/>
          <p:cNvCxnSpPr>
            <a:stCxn id="214" idx="4"/>
            <a:endCxn id="212" idx="0"/>
          </p:cNvCxnSpPr>
          <p:nvPr/>
        </p:nvCxnSpPr>
        <p:spPr>
          <a:xfrm flipH="1" rot="16200000">
            <a:off x="2028960" y="456480"/>
            <a:ext cx="1033920" cy="1808640"/>
          </a:xfrm>
          <a:prstGeom prst="bentConnector3">
            <a:avLst>
              <a:gd name="adj1" fmla="val 4991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22" name=""/>
          <p:cNvCxnSpPr>
            <a:stCxn id="218" idx="2"/>
            <a:endCxn id="220" idx="0"/>
          </p:cNvCxnSpPr>
          <p:nvPr/>
        </p:nvCxnSpPr>
        <p:spPr>
          <a:xfrm rot="5400000">
            <a:off x="1434960" y="3461400"/>
            <a:ext cx="1578960" cy="2469240"/>
          </a:xfrm>
          <a:prstGeom prst="bentConnector3">
            <a:avLst>
              <a:gd name="adj1" fmla="val 4998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23" name=""/>
          <p:cNvSpPr/>
          <p:nvPr/>
        </p:nvSpPr>
        <p:spPr>
          <a:xfrm>
            <a:off x="1714320" y="731880"/>
            <a:ext cx="361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mponent_elemen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24320" y="1984320"/>
            <a:ext cx="2120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nod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693400" y="1893960"/>
            <a:ext cx="2503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473280" y="2593800"/>
            <a:ext cx="2631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connecting_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nnectivity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052280" y="4311720"/>
            <a:ext cx="200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connecting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788160" y="23526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47040" y="5054760"/>
            <a:ext cx="10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18" idx="3"/>
            <a:endCxn id="228" idx="4"/>
          </p:cNvCxnSpPr>
          <p:nvPr/>
        </p:nvCxnSpPr>
        <p:spPr>
          <a:xfrm flipV="1">
            <a:off x="5117760" y="2518920"/>
            <a:ext cx="1747080" cy="116136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31" name=""/>
          <p:cNvSpPr/>
          <p:nvPr/>
        </p:nvSpPr>
        <p:spPr>
          <a:xfrm>
            <a:off x="5122800" y="3330720"/>
            <a:ext cx="3848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eccentric_connectivit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717440" y="568944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16560" y="584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13" idx="3"/>
            <a:endCxn id="233" idx="2"/>
          </p:cNvCxnSpPr>
          <p:nvPr/>
        </p:nvCxnSpPr>
        <p:spPr>
          <a:xfrm>
            <a:off x="1157040" y="5920920"/>
            <a:ext cx="334548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35" name=""/>
          <p:cNvSpPr/>
          <p:nvPr/>
        </p:nvSpPr>
        <p:spPr>
          <a:xfrm>
            <a:off x="1253880" y="5567400"/>
            <a:ext cx="320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strained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914640" y="3724200"/>
            <a:ext cx="3319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365960" y="5195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6" idx="2"/>
            <a:endCxn id="237" idx="2"/>
          </p:cNvCxnSpPr>
          <p:nvPr/>
        </p:nvCxnSpPr>
        <p:spPr>
          <a:xfrm flipH="1" rot="16200000">
            <a:off x="5021640" y="2941920"/>
            <a:ext cx="1389960" cy="3270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39" name=""/>
          <p:cNvSpPr/>
          <p:nvPr/>
        </p:nvSpPr>
        <p:spPr>
          <a:xfrm>
            <a:off x="4068360" y="4151160"/>
            <a:ext cx="42642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ix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lease_for_element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71080" y="1098360"/>
            <a:ext cx="867564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 = CARTESIAN_POINT ('node point 1', (0.0, 0.0, 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 = CARTESIAN_POINT ('node point 2', (0.0, 0.0, 500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…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7 = NODE ('A1’, #1, #32, #10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8 = NODE ('A2', #2, #33, #10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3 = ELEMENT_CURVE_SIMPLE ('E1', $, #100, 1, $, #201, #133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 = ELEMENT_NODE_CONNECTIVITY (1, ‘Start Node’, #7, #13, $, #3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 = ELEMENT_NODE_CONNECTIVITY (2, ‘End Node’, #8, #13, $, #3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2 = BOUNDARY_CONDITION_LOGICAL ('PINNED', $, .F., .U., .F., .U., .T., .U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3 = BOUNDARY_CONDITION_LOGICAL ('FREE', $, .T., .U., .T., .U., .T., .U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4 = RELEASE_LOGICAL ('FIXED END', $, .F., .U., .F., .U., .F., .U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oundary condi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1009800" y="1192320"/>
          <a:ext cx="6381720" cy="419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9800" y="1192320"/>
                    <a:ext cx="6381720" cy="41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380160" y="57085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717440" y="568944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516560" y="584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"/>
          <p:cNvCxnSpPr>
            <a:stCxn id="245" idx="3"/>
            <a:endCxn id="247" idx="2"/>
          </p:cNvCxnSpPr>
          <p:nvPr/>
        </p:nvCxnSpPr>
        <p:spPr>
          <a:xfrm>
            <a:off x="1157040" y="5920920"/>
            <a:ext cx="334548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49" name=""/>
          <p:cNvSpPr/>
          <p:nvPr/>
        </p:nvSpPr>
        <p:spPr>
          <a:xfrm>
            <a:off x="1253880" y="5567400"/>
            <a:ext cx="320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strained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465120" y="1022400"/>
            <a:ext cx="8309160" cy="420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865600" y="1986120"/>
            <a:ext cx="31680" cy="1653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4880" y="3809880"/>
            <a:ext cx="1643040" cy="32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695680" y="1784520"/>
            <a:ext cx="31680" cy="2216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705040" y="3989520"/>
            <a:ext cx="2163960" cy="31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4678200" y="3809880"/>
            <a:ext cx="190800" cy="179640"/>
            <a:chOff x="4678200" y="3809880"/>
            <a:chExt cx="190800" cy="179640"/>
          </a:xfrm>
        </p:grpSpPr>
        <p:sp>
          <p:nvSpPr>
            <p:cNvPr id="256" name=""/>
            <p:cNvSpPr/>
            <p:nvPr/>
          </p:nvSpPr>
          <p:spPr>
            <a:xfrm>
              <a:off x="4678200" y="3821040"/>
              <a:ext cx="169920" cy="168480"/>
            </a:xfrm>
            <a:custGeom>
              <a:avLst/>
              <a:gdLst/>
              <a:ahLst/>
              <a:rect l="l" t="t" r="r" b="b"/>
              <a:pathLst>
                <a:path w="107" h="106">
                  <a:moveTo>
                    <a:pt x="0" y="0"/>
                  </a:moveTo>
                  <a:lnTo>
                    <a:pt x="0" y="0"/>
                  </a:lnTo>
                  <a:lnTo>
                    <a:pt x="40" y="6"/>
                  </a:lnTo>
                  <a:lnTo>
                    <a:pt x="73" y="33"/>
                  </a:lnTo>
                  <a:lnTo>
                    <a:pt x="93" y="66"/>
                  </a:lnTo>
                  <a:lnTo>
                    <a:pt x="107" y="106"/>
                  </a:lnTo>
                  <a:lnTo>
                    <a:pt x="0" y="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78200" y="3809880"/>
              <a:ext cx="190800" cy="179640"/>
            </a:xfrm>
            <a:custGeom>
              <a:avLst/>
              <a:gdLst/>
              <a:ahLst/>
              <a:rect l="l" t="t" r="r" b="b"/>
              <a:pathLst>
                <a:path w="120" h="113">
                  <a:moveTo>
                    <a:pt x="0" y="0"/>
                  </a:moveTo>
                  <a:lnTo>
                    <a:pt x="0" y="20"/>
                  </a:lnTo>
                  <a:lnTo>
                    <a:pt x="40" y="27"/>
                  </a:lnTo>
                  <a:lnTo>
                    <a:pt x="73" y="47"/>
                  </a:lnTo>
                  <a:lnTo>
                    <a:pt x="73" y="40"/>
                  </a:lnTo>
                  <a:lnTo>
                    <a:pt x="66" y="40"/>
                  </a:lnTo>
                  <a:lnTo>
                    <a:pt x="87" y="73"/>
                  </a:lnTo>
                  <a:lnTo>
                    <a:pt x="100" y="113"/>
                  </a:lnTo>
                  <a:lnTo>
                    <a:pt x="120" y="113"/>
                  </a:lnTo>
                  <a:lnTo>
                    <a:pt x="107" y="67"/>
                  </a:lnTo>
                  <a:lnTo>
                    <a:pt x="87" y="33"/>
                  </a:lnTo>
                  <a:lnTo>
                    <a:pt x="80" y="27"/>
                  </a:lnTo>
                  <a:lnTo>
                    <a:pt x="4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4646520" y="3852720"/>
            <a:ext cx="52560" cy="1270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2727360" y="1784520"/>
            <a:ext cx="169920" cy="201600"/>
            <a:chOff x="2727360" y="1784520"/>
            <a:chExt cx="169920" cy="201600"/>
          </a:xfrm>
        </p:grpSpPr>
        <p:sp>
          <p:nvSpPr>
            <p:cNvPr id="260" name=""/>
            <p:cNvSpPr/>
            <p:nvPr/>
          </p:nvSpPr>
          <p:spPr>
            <a:xfrm>
              <a:off x="2727360" y="1795320"/>
              <a:ext cx="147600" cy="190800"/>
            </a:xfrm>
            <a:custGeom>
              <a:avLst/>
              <a:gdLst/>
              <a:ahLst/>
              <a:rect l="l" t="t" r="r" b="b"/>
              <a:pathLst>
                <a:path w="93" h="120">
                  <a:moveTo>
                    <a:pt x="0" y="0"/>
                  </a:moveTo>
                  <a:lnTo>
                    <a:pt x="40" y="6"/>
                  </a:lnTo>
                  <a:lnTo>
                    <a:pt x="67" y="33"/>
                  </a:lnTo>
                  <a:lnTo>
                    <a:pt x="87" y="73"/>
                  </a:lnTo>
                  <a:lnTo>
                    <a:pt x="93" y="120"/>
                  </a:lnTo>
                  <a:lnTo>
                    <a:pt x="0" y="1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727360" y="1784520"/>
              <a:ext cx="169920" cy="201600"/>
            </a:xfrm>
            <a:custGeom>
              <a:avLst/>
              <a:gdLst/>
              <a:ahLst/>
              <a:rect l="l" t="t" r="r" b="b"/>
              <a:pathLst>
                <a:path w="107" h="127">
                  <a:moveTo>
                    <a:pt x="0" y="0"/>
                  </a:moveTo>
                  <a:lnTo>
                    <a:pt x="0" y="20"/>
                  </a:lnTo>
                  <a:lnTo>
                    <a:pt x="33" y="27"/>
                  </a:lnTo>
                  <a:lnTo>
                    <a:pt x="67" y="53"/>
                  </a:lnTo>
                  <a:lnTo>
                    <a:pt x="67" y="40"/>
                  </a:lnTo>
                  <a:lnTo>
                    <a:pt x="60" y="47"/>
                  </a:lnTo>
                  <a:lnTo>
                    <a:pt x="73" y="87"/>
                  </a:lnTo>
                  <a:lnTo>
                    <a:pt x="87" y="80"/>
                  </a:lnTo>
                  <a:lnTo>
                    <a:pt x="73" y="80"/>
                  </a:lnTo>
                  <a:lnTo>
                    <a:pt x="87" y="127"/>
                  </a:lnTo>
                  <a:lnTo>
                    <a:pt x="107" y="127"/>
                  </a:lnTo>
                  <a:lnTo>
                    <a:pt x="93" y="87"/>
                  </a:lnTo>
                  <a:lnTo>
                    <a:pt x="93" y="80"/>
                  </a:lnTo>
                  <a:lnTo>
                    <a:pt x="93" y="80"/>
                  </a:lnTo>
                  <a:lnTo>
                    <a:pt x="80" y="40"/>
                  </a:lnTo>
                  <a:lnTo>
                    <a:pt x="73" y="33"/>
                  </a:lnTo>
                  <a:lnTo>
                    <a:pt x="4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2736720" y="1963800"/>
            <a:ext cx="117720" cy="540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2874960" y="3639960"/>
            <a:ext cx="169920" cy="190800"/>
            <a:chOff x="2874960" y="3639960"/>
            <a:chExt cx="169920" cy="190800"/>
          </a:xfrm>
        </p:grpSpPr>
        <p:sp>
          <p:nvSpPr>
            <p:cNvPr id="264" name=""/>
            <p:cNvSpPr/>
            <p:nvPr/>
          </p:nvSpPr>
          <p:spPr>
            <a:xfrm>
              <a:off x="2886120" y="3639960"/>
              <a:ext cx="158760" cy="169920"/>
            </a:xfrm>
            <a:custGeom>
              <a:avLst/>
              <a:gdLst/>
              <a:ahLst/>
              <a:rect l="l" t="t" r="r" b="b"/>
              <a:pathLst>
                <a:path w="100" h="107">
                  <a:moveTo>
                    <a:pt x="100" y="107"/>
                  </a:moveTo>
                  <a:lnTo>
                    <a:pt x="100" y="107"/>
                  </a:lnTo>
                  <a:lnTo>
                    <a:pt x="93" y="107"/>
                  </a:lnTo>
                  <a:lnTo>
                    <a:pt x="53" y="100"/>
                  </a:lnTo>
                  <a:lnTo>
                    <a:pt x="27" y="73"/>
                  </a:lnTo>
                  <a:lnTo>
                    <a:pt x="7" y="40"/>
                  </a:lnTo>
                  <a:lnTo>
                    <a:pt x="0" y="0"/>
                  </a:lnTo>
                  <a:lnTo>
                    <a:pt x="93" y="0"/>
                  </a:lnTo>
                  <a:lnTo>
                    <a:pt x="100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874960" y="3639960"/>
              <a:ext cx="169920" cy="190800"/>
            </a:xfrm>
            <a:custGeom>
              <a:avLst/>
              <a:gdLst/>
              <a:ahLst/>
              <a:rect l="l" t="t" r="r" b="b"/>
              <a:pathLst>
                <a:path w="107" h="120">
                  <a:moveTo>
                    <a:pt x="107" y="120"/>
                  </a:moveTo>
                  <a:lnTo>
                    <a:pt x="107" y="100"/>
                  </a:lnTo>
                  <a:lnTo>
                    <a:pt x="100" y="100"/>
                  </a:lnTo>
                  <a:lnTo>
                    <a:pt x="100" y="100"/>
                  </a:lnTo>
                  <a:lnTo>
                    <a:pt x="60" y="87"/>
                  </a:lnTo>
                  <a:lnTo>
                    <a:pt x="60" y="100"/>
                  </a:lnTo>
                  <a:lnTo>
                    <a:pt x="67" y="87"/>
                  </a:lnTo>
                  <a:lnTo>
                    <a:pt x="40" y="67"/>
                  </a:lnTo>
                  <a:lnTo>
                    <a:pt x="34" y="73"/>
                  </a:lnTo>
                  <a:lnTo>
                    <a:pt x="47" y="73"/>
                  </a:lnTo>
                  <a:lnTo>
                    <a:pt x="27" y="4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7" y="47"/>
                  </a:lnTo>
                  <a:lnTo>
                    <a:pt x="27" y="80"/>
                  </a:lnTo>
                  <a:lnTo>
                    <a:pt x="34" y="87"/>
                  </a:lnTo>
                  <a:lnTo>
                    <a:pt x="60" y="107"/>
                  </a:lnTo>
                  <a:lnTo>
                    <a:pt x="67" y="107"/>
                  </a:lnTo>
                  <a:lnTo>
                    <a:pt x="100" y="120"/>
                  </a:lnTo>
                  <a:lnTo>
                    <a:pt x="107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2906640" y="3608280"/>
            <a:ext cx="127080" cy="428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24360" y="3608280"/>
            <a:ext cx="63360" cy="1904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27160" y="3340080"/>
            <a:ext cx="4442040" cy="144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139920" y="1317600"/>
            <a:ext cx="1800" cy="340380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87720" y="1084320"/>
            <a:ext cx="147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30560" y="1084320"/>
            <a:ext cx="10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114720" y="1041480"/>
            <a:ext cx="16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87720" y="4711680"/>
            <a:ext cx="1587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30560" y="4700520"/>
            <a:ext cx="10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222720" y="47005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165400" y="3067200"/>
            <a:ext cx="158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883880" y="3182760"/>
            <a:ext cx="11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300400" y="30672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981760" y="3089160"/>
            <a:ext cx="1442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634800" y="3173400"/>
            <a:ext cx="114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local y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70600" y="30877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655640" y="1467000"/>
            <a:ext cx="922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22520" y="1133640"/>
            <a:ext cx="118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theoreti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620360" y="1378080"/>
            <a:ext cx="110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rigid link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543040" y="16668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087720" y="3236760"/>
            <a:ext cx="147600" cy="158760"/>
          </a:xfrm>
          <a:prstGeom prst="ellipse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649680" y="2654280"/>
            <a:ext cx="14637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306960" y="2597040"/>
            <a:ext cx="211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geometric centro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51840" y="2855880"/>
            <a:ext cx="1049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of 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441680" y="28558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3162240" y="2865600"/>
            <a:ext cx="384120" cy="425160"/>
            <a:chOff x="3162240" y="2865600"/>
            <a:chExt cx="384120" cy="425160"/>
          </a:xfrm>
        </p:grpSpPr>
        <p:sp>
          <p:nvSpPr>
            <p:cNvPr id="292" name=""/>
            <p:cNvSpPr/>
            <p:nvPr/>
          </p:nvSpPr>
          <p:spPr>
            <a:xfrm flipH="1">
              <a:off x="3206520" y="2865600"/>
              <a:ext cx="339840" cy="37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162240" y="3173400"/>
              <a:ext cx="97560" cy="11736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20" y="0"/>
                  </a:moveTo>
                  <a:lnTo>
                    <a:pt x="0" y="74"/>
                  </a:lnTo>
                  <a:lnTo>
                    <a:pt x="73" y="4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977760" y="1328760"/>
            <a:ext cx="1800" cy="3753000"/>
          </a:xfrm>
          <a:prstGeom prst="line">
            <a:avLst/>
          </a:prstGeom>
          <a:ln w="28440">
            <a:solidFill>
              <a:srgbClr val="0000ff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60400" y="5008680"/>
            <a:ext cx="5800680" cy="1440"/>
          </a:xfrm>
          <a:prstGeom prst="line">
            <a:avLst/>
          </a:prstGeom>
          <a:ln w="28440">
            <a:solidFill>
              <a:srgbClr val="0000ff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39720" y="2325600"/>
            <a:ext cx="233640" cy="233280"/>
          </a:xfrm>
          <a:prstGeom prst="ellipse">
            <a:avLst/>
          </a:prstGeom>
          <a:solidFill>
            <a:srgbClr val="ff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229360" y="4775040"/>
            <a:ext cx="13255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055480" y="4659480"/>
            <a:ext cx="136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Global X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413400" y="477504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644480" y="2590920"/>
            <a:ext cx="1800" cy="20145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1603440" y="4441680"/>
            <a:ext cx="1527120" cy="131400"/>
            <a:chOff x="1603440" y="4441680"/>
            <a:chExt cx="1527120" cy="131400"/>
          </a:xfrm>
        </p:grpSpPr>
        <p:sp>
          <p:nvSpPr>
            <p:cNvPr id="302" name=""/>
            <p:cNvSpPr/>
            <p:nvPr/>
          </p:nvSpPr>
          <p:spPr>
            <a:xfrm>
              <a:off x="1644480" y="4502160"/>
              <a:ext cx="14004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603440" y="4453920"/>
              <a:ext cx="95040" cy="106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024360" y="4441680"/>
              <a:ext cx="106200" cy="131400"/>
            </a:xfrm>
            <a:custGeom>
              <a:avLst/>
              <a:gdLst/>
              <a:ahLst/>
              <a:rect l="l" t="t" r="r" b="b"/>
              <a:pathLst>
                <a:path w="67" h="74">
                  <a:moveTo>
                    <a:pt x="0" y="74"/>
                  </a:moveTo>
                  <a:lnTo>
                    <a:pt x="67" y="34"/>
                  </a:lnTo>
                  <a:lnTo>
                    <a:pt x="0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1687680" y="4245120"/>
            <a:ext cx="13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667160" y="4173480"/>
            <a:ext cx="144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x_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914560" y="4245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093680" y="1211400"/>
            <a:ext cx="3081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204200" y="121140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314360" y="12114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644480" y="2430360"/>
            <a:ext cx="1506600" cy="901800"/>
          </a:xfrm>
          <a:custGeom>
            <a:avLst/>
            <a:gdLst/>
            <a:ahLst/>
            <a:rect l="l" t="t" r="r" b="b"/>
            <a:pathLst>
              <a:path w="949" h="568">
                <a:moveTo>
                  <a:pt x="7" y="0"/>
                </a:moveTo>
                <a:lnTo>
                  <a:pt x="0" y="20"/>
                </a:lnTo>
                <a:lnTo>
                  <a:pt x="942" y="568"/>
                </a:lnTo>
                <a:lnTo>
                  <a:pt x="949" y="548"/>
                </a:lnTo>
                <a:lnTo>
                  <a:pt x="7" y="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2027160" y="1701720"/>
            <a:ext cx="129960" cy="1004400"/>
            <a:chOff x="2027160" y="1701720"/>
            <a:chExt cx="129960" cy="1004400"/>
          </a:xfrm>
        </p:grpSpPr>
        <p:sp>
          <p:nvSpPr>
            <p:cNvPr id="313" name=""/>
            <p:cNvSpPr/>
            <p:nvPr/>
          </p:nvSpPr>
          <p:spPr>
            <a:xfrm>
              <a:off x="2075040" y="1701720"/>
              <a:ext cx="23400" cy="895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027160" y="2568240"/>
              <a:ext cx="129960" cy="137880"/>
            </a:xfrm>
            <a:custGeom>
              <a:avLst/>
              <a:gdLst/>
              <a:ahLst/>
              <a:rect l="l" t="t" r="r" b="b"/>
              <a:pathLst>
                <a:path w="73" h="67">
                  <a:moveTo>
                    <a:pt x="0" y="0"/>
                  </a:moveTo>
                  <a:lnTo>
                    <a:pt x="40" y="67"/>
                  </a:lnTo>
                  <a:lnTo>
                    <a:pt x="7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1019160" y="1932120"/>
            <a:ext cx="7318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052640" y="195588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36840" y="1986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1316160" y="2219400"/>
            <a:ext cx="212760" cy="137880"/>
            <a:chOff x="1316160" y="2219400"/>
            <a:chExt cx="212760" cy="137880"/>
          </a:xfrm>
        </p:grpSpPr>
        <p:sp>
          <p:nvSpPr>
            <p:cNvPr id="319" name=""/>
            <p:cNvSpPr/>
            <p:nvPr/>
          </p:nvSpPr>
          <p:spPr>
            <a:xfrm>
              <a:off x="1316160" y="2219400"/>
              <a:ext cx="149040" cy="106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401840" y="2251080"/>
              <a:ext cx="127080" cy="106200"/>
            </a:xfrm>
            <a:custGeom>
              <a:avLst/>
              <a:gdLst/>
              <a:ahLst/>
              <a:rect l="l" t="t" r="r" b="b"/>
              <a:pathLst>
                <a:path w="80" h="67">
                  <a:moveTo>
                    <a:pt x="0" y="67"/>
                  </a:moveTo>
                  <a:lnTo>
                    <a:pt x="80" y="67"/>
                  </a:lnTo>
                  <a:lnTo>
                    <a:pt x="40" y="0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3352680" y="2409840"/>
            <a:ext cx="24591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621400" y="2409840"/>
            <a:ext cx="1440" cy="903240"/>
          </a:xfrm>
          <a:prstGeom prst="line">
            <a:avLst/>
          </a:prstGeom>
          <a:ln w="11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78560" y="2367000"/>
            <a:ext cx="96840" cy="95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675400" y="2749680"/>
            <a:ext cx="1176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684040" y="2749680"/>
            <a:ext cx="143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z_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764400" y="27496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 Eccentricit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824120" y="535788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693400" y="3784680"/>
            <a:ext cx="2503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788160" y="42433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1" name=""/>
          <p:cNvCxnSpPr>
            <a:stCxn id="328" idx="3"/>
            <a:endCxn id="330" idx="4"/>
          </p:cNvCxnSpPr>
          <p:nvPr/>
        </p:nvCxnSpPr>
        <p:spPr>
          <a:xfrm flipV="1">
            <a:off x="5117760" y="4409640"/>
            <a:ext cx="1747080" cy="116136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332" name=""/>
          <p:cNvSpPr/>
          <p:nvPr/>
        </p:nvSpPr>
        <p:spPr>
          <a:xfrm>
            <a:off x="5122800" y="5221440"/>
            <a:ext cx="3848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eccentric_connectivit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ardinal Poi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147600" y="1785960"/>
            <a:ext cx="8867880" cy="41752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1403280" y="3257640"/>
            <a:ext cx="2090520" cy="398880"/>
            <a:chOff x="1403280" y="3257640"/>
            <a:chExt cx="2090520" cy="398880"/>
          </a:xfrm>
        </p:grpSpPr>
        <p:sp>
          <p:nvSpPr>
            <p:cNvPr id="337" name=""/>
            <p:cNvSpPr/>
            <p:nvPr/>
          </p:nvSpPr>
          <p:spPr>
            <a:xfrm>
              <a:off x="1641240" y="3257640"/>
              <a:ext cx="1852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403280" y="3389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298800" y="111132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0" name=""/>
          <p:cNvCxnSpPr>
            <a:stCxn id="339" idx="2"/>
            <a:endCxn id="338" idx="2"/>
          </p:cNvCxnSpPr>
          <p:nvPr/>
        </p:nvCxnSpPr>
        <p:spPr>
          <a:xfrm flipH="1" rot="16200000">
            <a:off x="141840" y="2250720"/>
            <a:ext cx="193284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41" name=""/>
          <p:cNvCxnSpPr>
            <a:stCxn id="339" idx="2"/>
            <a:endCxn id="342" idx="2"/>
          </p:cNvCxnSpPr>
          <p:nvPr/>
        </p:nvCxnSpPr>
        <p:spPr>
          <a:xfrm flipH="1" rot="16200000">
            <a:off x="-1077120" y="3470040"/>
            <a:ext cx="437112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43" name=""/>
          <p:cNvSpPr/>
          <p:nvPr/>
        </p:nvSpPr>
        <p:spPr>
          <a:xfrm>
            <a:off x="360000" y="159084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1403280" y="5667480"/>
            <a:ext cx="2287800" cy="412920"/>
            <a:chOff x="1403280" y="5667480"/>
            <a:chExt cx="2287800" cy="412920"/>
          </a:xfrm>
        </p:grpSpPr>
        <p:sp>
          <p:nvSpPr>
            <p:cNvPr id="345" name=""/>
            <p:cNvSpPr/>
            <p:nvPr/>
          </p:nvSpPr>
          <p:spPr>
            <a:xfrm>
              <a:off x="1641960" y="5681520"/>
              <a:ext cx="2049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403280" y="582768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527280" y="5667480"/>
              <a:ext cx="158400" cy="1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1403280" y="4462560"/>
            <a:ext cx="2287800" cy="398880"/>
            <a:chOff x="1403280" y="4462560"/>
            <a:chExt cx="2287800" cy="398880"/>
          </a:xfrm>
        </p:grpSpPr>
        <p:sp>
          <p:nvSpPr>
            <p:cNvPr id="348" name=""/>
            <p:cNvSpPr/>
            <p:nvPr/>
          </p:nvSpPr>
          <p:spPr>
            <a:xfrm>
              <a:off x="1626840" y="4462560"/>
              <a:ext cx="2064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403280" y="45943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0" name=""/>
          <p:cNvCxnSpPr>
            <a:stCxn id="339" idx="2"/>
            <a:endCxn id="349" idx="2"/>
          </p:cNvCxnSpPr>
          <p:nvPr/>
        </p:nvCxnSpPr>
        <p:spPr>
          <a:xfrm flipH="1" rot="16200000">
            <a:off x="-460440" y="2853360"/>
            <a:ext cx="313776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51" name=""/>
          <p:cNvGrpSpPr/>
          <p:nvPr/>
        </p:nvGrpSpPr>
        <p:grpSpPr>
          <a:xfrm>
            <a:off x="1432080" y="2054160"/>
            <a:ext cx="2018520" cy="398880"/>
            <a:chOff x="1432080" y="2054160"/>
            <a:chExt cx="2018520" cy="398880"/>
          </a:xfrm>
        </p:grpSpPr>
        <p:sp>
          <p:nvSpPr>
            <p:cNvPr id="352" name=""/>
            <p:cNvSpPr/>
            <p:nvPr/>
          </p:nvSpPr>
          <p:spPr>
            <a:xfrm>
              <a:off x="1671120" y="2054160"/>
              <a:ext cx="1779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432080" y="218592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4" name=""/>
          <p:cNvCxnSpPr>
            <a:stCxn id="339" idx="2"/>
            <a:endCxn id="353" idx="2"/>
          </p:cNvCxnSpPr>
          <p:nvPr/>
        </p:nvCxnSpPr>
        <p:spPr>
          <a:xfrm flipH="1" rot="16200000">
            <a:off x="758880" y="1634760"/>
            <a:ext cx="729360" cy="560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urv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418280" y="4226040"/>
            <a:ext cx="325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ng_points_on_axi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1131840" y="2057400"/>
            <a:ext cx="2090520" cy="398880"/>
            <a:chOff x="1131840" y="2057400"/>
            <a:chExt cx="2090520" cy="398880"/>
          </a:xfrm>
        </p:grpSpPr>
        <p:sp>
          <p:nvSpPr>
            <p:cNvPr id="358" name=""/>
            <p:cNvSpPr/>
            <p:nvPr/>
          </p:nvSpPr>
          <p:spPr>
            <a:xfrm>
              <a:off x="1369800" y="2057400"/>
              <a:ext cx="1852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4919040" y="2495520"/>
            <a:ext cx="157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2" name=""/>
          <p:cNvCxnSpPr>
            <a:stCxn id="361" idx="2"/>
            <a:endCxn id="359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63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513480" y="2808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711120" y="267804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1824120" y="2678040"/>
            <a:ext cx="2967480" cy="398880"/>
            <a:chOff x="1824120" y="2678040"/>
            <a:chExt cx="2967480" cy="398880"/>
          </a:xfrm>
        </p:grpSpPr>
        <p:sp>
          <p:nvSpPr>
            <p:cNvPr id="367" name=""/>
            <p:cNvSpPr/>
            <p:nvPr/>
          </p:nvSpPr>
          <p:spPr>
            <a:xfrm>
              <a:off x="2061360" y="2678040"/>
              <a:ext cx="2730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9" name=""/>
          <p:cNvCxnSpPr>
            <a:stCxn id="370" idx="2"/>
            <a:endCxn id="368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71" name=""/>
          <p:cNvGrpSpPr/>
          <p:nvPr/>
        </p:nvGrpSpPr>
        <p:grpSpPr>
          <a:xfrm>
            <a:off x="1838160" y="3514680"/>
            <a:ext cx="3179880" cy="398880"/>
            <a:chOff x="1838160" y="3514680"/>
            <a:chExt cx="3179880" cy="398880"/>
          </a:xfrm>
        </p:grpSpPr>
        <p:sp>
          <p:nvSpPr>
            <p:cNvPr id="372" name=""/>
            <p:cNvSpPr/>
            <p:nvPr/>
          </p:nvSpPr>
          <p:spPr>
            <a:xfrm>
              <a:off x="2074320" y="3514680"/>
              <a:ext cx="2943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4" name=""/>
          <p:cNvCxnSpPr>
            <a:stCxn id="370" idx="2"/>
            <a:endCxn id="373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70" name="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6472080" y="4929120"/>
            <a:ext cx="2162160" cy="398880"/>
            <a:chOff x="6472080" y="4929120"/>
            <a:chExt cx="2162160" cy="398880"/>
          </a:xfrm>
        </p:grpSpPr>
        <p:sp>
          <p:nvSpPr>
            <p:cNvPr id="376" name=""/>
            <p:cNvSpPr/>
            <p:nvPr/>
          </p:nvSpPr>
          <p:spPr>
            <a:xfrm>
              <a:off x="6710040" y="4929120"/>
              <a:ext cx="1924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_on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472080" y="50608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8" name=""/>
          <p:cNvCxnSpPr>
            <a:stCxn id="379" idx="2"/>
            <a:endCxn id="377" idx="2"/>
          </p:cNvCxnSpPr>
          <p:nvPr/>
        </p:nvCxnSpPr>
        <p:spPr>
          <a:xfrm flipH="1" rot="16200000">
            <a:off x="4819680" y="3516840"/>
            <a:ext cx="1227240" cy="2048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0" name=""/>
          <p:cNvSpPr/>
          <p:nvPr/>
        </p:nvSpPr>
        <p:spPr>
          <a:xfrm>
            <a:off x="1501920" y="4214880"/>
            <a:ext cx="245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553160" y="3111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stCxn id="367" idx="3"/>
            <a:endCxn id="364" idx="2"/>
          </p:cNvCxnSpPr>
          <p:nvPr/>
        </p:nvCxnSpPr>
        <p:spPr>
          <a:xfrm flipV="1">
            <a:off x="4817880" y="2883960"/>
            <a:ext cx="168156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83" name=""/>
          <p:cNvCxnSpPr>
            <a:stCxn id="372" idx="3"/>
            <a:endCxn id="381" idx="4"/>
          </p:cNvCxnSpPr>
          <p:nvPr/>
        </p:nvCxnSpPr>
        <p:spPr>
          <a:xfrm flipV="1">
            <a:off x="5043240" y="3277800"/>
            <a:ext cx="2586600" cy="450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4" name=""/>
          <p:cNvSpPr/>
          <p:nvPr/>
        </p:nvSpPr>
        <p:spPr>
          <a:xfrm>
            <a:off x="5122080" y="3303720"/>
            <a:ext cx="232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1820520" y="4836960"/>
            <a:ext cx="1351440" cy="576360"/>
            <a:chOff x="1820520" y="4836960"/>
            <a:chExt cx="1351440" cy="576360"/>
          </a:xfrm>
        </p:grpSpPr>
        <p:sp>
          <p:nvSpPr>
            <p:cNvPr id="387" name=""/>
            <p:cNvSpPr/>
            <p:nvPr/>
          </p:nvSpPr>
          <p:spPr>
            <a:xfrm>
              <a:off x="1820520" y="5022720"/>
              <a:ext cx="11973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379600" y="48369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027240" y="5022720"/>
              <a:ext cx="14472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90" name=""/>
          <p:cNvCxnSpPr>
            <a:stCxn id="385" idx="2"/>
            <a:endCxn id="388" idx="0"/>
          </p:cNvCxnSpPr>
          <p:nvPr/>
        </p:nvCxnSpPr>
        <p:spPr>
          <a:xfrm>
            <a:off x="2445840" y="3927240"/>
            <a:ext cx="10440" cy="896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1" name=""/>
          <p:cNvSpPr/>
          <p:nvPr/>
        </p:nvSpPr>
        <p:spPr>
          <a:xfrm>
            <a:off x="494640" y="4226040"/>
            <a:ext cx="282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ng_point_on_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168200" y="2581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3" name=""/>
          <p:cNvGraphicFramePr/>
          <p:nvPr/>
        </p:nvGraphicFramePr>
        <p:xfrm>
          <a:off x="210960" y="1319040"/>
          <a:ext cx="8861760" cy="46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960" y="1319040"/>
                    <a:ext cx="8861760" cy="46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260280" y="311040"/>
            <a:ext cx="2644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_i_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21760" y="785520"/>
            <a:ext cx="8572680" cy="552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Section Profile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1 = SECTION_PROFILE_I_TYPE (1, 'W14x16x500', 'Wide flange beam to ASTM', 'Plastic', $, #202, #203, #204, #205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overall_depth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2 = POSITIVE_LENGTH_MEASURE_WITH_UNIT (POSITIVE_LENGTH_MEASURE(498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overall_width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3 = POSITIVE_ LENGTH_MEASURE_WITH_UNIT (POSITIVE_LENGTH_MEASURE(432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web_thickness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4 = POSITIVE_ LENGTH_MEASURE_WITH_UNIT (POSITIVE_LENGTH_MEASURE(55.6), #1021);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flange_thickness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5 = POSITIVE_ LENGTH_MEASURE_WITH_UNIT (POSITIVE_LENGTH_MEASURE(88.9), #1021);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Length Unit (mm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21 = (LENGTH_UNIT()NAMED_UNIT(*)SI_UNIT(.MILL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The 3 ‘Views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alysis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Desig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39760" y="3452760"/>
            <a:ext cx="2743200" cy="2668680"/>
            <a:chOff x="239760" y="3452760"/>
            <a:chExt cx="2743200" cy="2668680"/>
          </a:xfrm>
        </p:grpSpPr>
        <p:sp>
          <p:nvSpPr>
            <p:cNvPr id="92" name=""/>
            <p:cNvSpPr/>
            <p:nvPr/>
          </p:nvSpPr>
          <p:spPr>
            <a:xfrm>
              <a:off x="239760" y="345276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25440" y="517356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4978440" y="3578400"/>
            <a:ext cx="2181240" cy="909360"/>
          </a:xfrm>
          <a:prstGeom prst="cloudCallout">
            <a:avLst>
              <a:gd name="adj1" fmla="val -14921"/>
              <a:gd name="adj2" fmla="val -270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38480" y="2019240"/>
            <a:ext cx="3017880" cy="1746360"/>
          </a:xfrm>
          <a:prstGeom prst="cloudCallout">
            <a:avLst>
              <a:gd name="adj1" fmla="val -25171"/>
              <a:gd name="adj2" fmla="val -545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3218040"/>
            <a:ext cx="2367000" cy="1269720"/>
          </a:xfrm>
          <a:prstGeom prst="cloudCallout">
            <a:avLst>
              <a:gd name="adj1" fmla="val -12912"/>
              <a:gd name="adj2" fmla="val -183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ositive_length_measure_with_uni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54068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6240600" y="2406600"/>
            <a:ext cx="690480" cy="593640"/>
            <a:chOff x="6240600" y="2406600"/>
            <a:chExt cx="690480" cy="593640"/>
          </a:xfrm>
        </p:grpSpPr>
        <p:sp>
          <p:nvSpPr>
            <p:cNvPr id="404" name=""/>
            <p:cNvSpPr/>
            <p:nvPr/>
          </p:nvSpPr>
          <p:spPr>
            <a:xfrm>
              <a:off x="6240600" y="2629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91160" y="24066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6350040" y="261144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07" name=""/>
          <p:cNvCxnSpPr>
            <a:endCxn id="405" idx="0"/>
          </p:cNvCxnSpPr>
          <p:nvPr/>
        </p:nvCxnSpPr>
        <p:spPr>
          <a:xfrm>
            <a:off x="6573600" y="1871640"/>
            <a:ext cx="11880" cy="521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08" name=""/>
          <p:cNvSpPr/>
          <p:nvPr/>
        </p:nvSpPr>
        <p:spPr>
          <a:xfrm>
            <a:off x="7358040" y="3211560"/>
            <a:ext cx="1511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m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015400" y="2995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0" name=""/>
          <p:cNvCxnSpPr>
            <a:stCxn id="404" idx="3"/>
            <a:endCxn id="409" idx="0"/>
          </p:cNvCxnSpPr>
          <p:nvPr/>
        </p:nvCxnSpPr>
        <p:spPr>
          <a:xfrm>
            <a:off x="6945480" y="2827080"/>
            <a:ext cx="1164240" cy="154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11" name=""/>
          <p:cNvSpPr/>
          <p:nvPr/>
        </p:nvSpPr>
        <p:spPr>
          <a:xfrm>
            <a:off x="6604560" y="20257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07800" y="1460520"/>
            <a:ext cx="1862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195640" y="1569960"/>
            <a:ext cx="19188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415800" y="1442520"/>
            <a:ext cx="0" cy="389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5" name=""/>
          <p:cNvCxnSpPr>
            <a:stCxn id="402" idx="1"/>
            <a:endCxn id="413" idx="6"/>
          </p:cNvCxnSpPr>
          <p:nvPr/>
        </p:nvCxnSpPr>
        <p:spPr>
          <a:xfrm flipH="1">
            <a:off x="2401200" y="1652760"/>
            <a:ext cx="2112120" cy="1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16" name=""/>
          <p:cNvSpPr/>
          <p:nvPr/>
        </p:nvSpPr>
        <p:spPr>
          <a:xfrm>
            <a:off x="2491920" y="127800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664080" y="22334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611800" y="2432160"/>
            <a:ext cx="23187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ve_length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0" name=""/>
          <p:cNvCxnSpPr>
            <a:stCxn id="417" idx="2"/>
            <a:endCxn id="418" idx="0"/>
          </p:cNvCxnSpPr>
          <p:nvPr/>
        </p:nvCxnSpPr>
        <p:spPr>
          <a:xfrm rot="5400000">
            <a:off x="4374720" y="1233360"/>
            <a:ext cx="354600" cy="1589760"/>
          </a:xfrm>
          <a:prstGeom prst="bentConnector3">
            <a:avLst>
              <a:gd name="adj1" fmla="val 5376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21" name=""/>
          <p:cNvSpPr/>
          <p:nvPr/>
        </p:nvSpPr>
        <p:spPr>
          <a:xfrm>
            <a:off x="840600" y="577224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152360" y="5586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614600" y="577224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4" name=""/>
          <p:cNvCxnSpPr>
            <a:stCxn id="425" idx="2"/>
            <a:endCxn id="422" idx="0"/>
          </p:cNvCxnSpPr>
          <p:nvPr/>
        </p:nvCxnSpPr>
        <p:spPr>
          <a:xfrm>
            <a:off x="1220760" y="5155920"/>
            <a:ext cx="864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26" name=""/>
          <p:cNvSpPr/>
          <p:nvPr/>
        </p:nvSpPr>
        <p:spPr>
          <a:xfrm>
            <a:off x="5991120" y="360504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378760" y="380520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08" idx="1"/>
            <a:endCxn id="426" idx="0"/>
          </p:cNvCxnSpPr>
          <p:nvPr/>
        </p:nvCxnSpPr>
        <p:spPr>
          <a:xfrm flipV="1" rot="10800000">
            <a:off x="6084000" y="3423240"/>
            <a:ext cx="1245600" cy="153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25" name=""/>
          <p:cNvSpPr/>
          <p:nvPr/>
        </p:nvSpPr>
        <p:spPr>
          <a:xfrm>
            <a:off x="313560" y="474660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166760" y="32637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stCxn id="412" idx="2"/>
            <a:endCxn id="429" idx="0"/>
          </p:cNvCxnSpPr>
          <p:nvPr/>
        </p:nvCxnSpPr>
        <p:spPr>
          <a:xfrm flipH="1" rot="16200000">
            <a:off x="550800" y="2558160"/>
            <a:ext cx="1380240" cy="3960"/>
          </a:xfrm>
          <a:prstGeom prst="bentConnector3">
            <a:avLst>
              <a:gd name="adj1" fmla="val 49934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32" name=""/>
          <p:cNvGrpSpPr/>
          <p:nvPr/>
        </p:nvGrpSpPr>
        <p:grpSpPr>
          <a:xfrm>
            <a:off x="2193480" y="3173400"/>
            <a:ext cx="3105720" cy="1126800"/>
            <a:chOff x="2193480" y="3173400"/>
            <a:chExt cx="3105720" cy="1126800"/>
          </a:xfrm>
        </p:grpSpPr>
        <p:sp>
          <p:nvSpPr>
            <p:cNvPr id="433" name=""/>
            <p:cNvSpPr/>
            <p:nvPr/>
          </p:nvSpPr>
          <p:spPr>
            <a:xfrm flipH="1" flipV="1">
              <a:off x="2193120" y="3258360"/>
              <a:ext cx="1335240" cy="939960"/>
            </a:xfrm>
            <a:custGeom>
              <a:avLst/>
              <a:gdLst>
                <a:gd name="textAreaLeft" fmla="*/ -360 w 1335240"/>
                <a:gd name="textAreaRight" fmla="*/ 1335240 w 1335240"/>
                <a:gd name="textAreaTop" fmla="*/ -360 h 939960"/>
                <a:gd name="textAreaBottom" fmla="*/ 939960 h 93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497" stAng="10800000" swAng="5400000"/>
                  <a:lnTo>
                    <a:pt x="12610" y="2663"/>
                  </a:lnTo>
                  <a:lnTo>
                    <a:pt x="12610" y="0"/>
                  </a:lnTo>
                  <a:lnTo>
                    <a:pt x="21600" y="6079"/>
                  </a:lnTo>
                  <a:lnTo>
                    <a:pt x="12610" y="12158"/>
                  </a:lnTo>
                  <a:lnTo>
                    <a:pt x="12610" y="9495"/>
                  </a:lnTo>
                  <a:lnTo>
                    <a:pt x="12427" y="9495"/>
                  </a:lnTo>
                  <a:arcTo wR="5595" hR="2665" stAng="16200000" swAng="-5400000"/>
                  <a:lnTo>
                    <a:pt x="6832" y="216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3665520" y="3187080"/>
              <a:ext cx="1633680" cy="1112760"/>
            </a:xfrm>
            <a:custGeom>
              <a:avLst/>
              <a:gdLst>
                <a:gd name="textAreaLeft" fmla="*/ 0 w 1633680"/>
                <a:gd name="textAreaRight" fmla="*/ 1634040 w 1633680"/>
                <a:gd name="textAreaTop" fmla="*/ 0 h 1112760"/>
                <a:gd name="textAreaBottom" fmla="*/ 1112760 h 111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709" stAng="10800000" swAng="5400000"/>
                  <a:lnTo>
                    <a:pt x="16520" y="3451"/>
                  </a:lnTo>
                  <a:lnTo>
                    <a:pt x="16520" y="0"/>
                  </a:lnTo>
                  <a:lnTo>
                    <a:pt x="21600" y="6079"/>
                  </a:lnTo>
                  <a:lnTo>
                    <a:pt x="16520" y="12158"/>
                  </a:lnTo>
                  <a:lnTo>
                    <a:pt x="16520" y="8707"/>
                  </a:lnTo>
                  <a:lnTo>
                    <a:pt x="12427" y="8707"/>
                  </a:lnTo>
                  <a:arcTo wR="7171" hR="3453" stAng="16200000" swAng="-5400000"/>
                  <a:lnTo>
                    <a:pt x="5256" y="216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793240" y="3173400"/>
              <a:ext cx="148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3300"/>
                  </a:solidFill>
                  <a:latin typeface="Times New Roman"/>
                </a:rPr>
                <a:t>WHE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7649640" y="488808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8016840" y="46609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764760" y="4751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4894200" y="4882680"/>
            <a:ext cx="1770120" cy="384480"/>
            <a:chOff x="4894200" y="4882680"/>
            <a:chExt cx="1770120" cy="384480"/>
          </a:xfrm>
        </p:grpSpPr>
        <p:sp>
          <p:nvSpPr>
            <p:cNvPr id="440" name=""/>
            <p:cNvSpPr/>
            <p:nvPr/>
          </p:nvSpPr>
          <p:spPr>
            <a:xfrm>
              <a:off x="6512040" y="5021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894200" y="489888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6408720" y="488268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5313240" y="5484600"/>
            <a:ext cx="1379520" cy="374040"/>
            <a:chOff x="5313240" y="5484600"/>
            <a:chExt cx="1379520" cy="374040"/>
          </a:xfrm>
        </p:grpSpPr>
        <p:sp>
          <p:nvSpPr>
            <p:cNvPr id="444" name=""/>
            <p:cNvSpPr/>
            <p:nvPr/>
          </p:nvSpPr>
          <p:spPr>
            <a:xfrm>
              <a:off x="6540120" y="5608440"/>
              <a:ext cx="15264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313240" y="5487840"/>
              <a:ext cx="11826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6395760" y="5484600"/>
              <a:ext cx="0" cy="374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47" name=""/>
          <p:cNvCxnSpPr>
            <a:stCxn id="436" idx="1"/>
            <a:endCxn id="440" idx="6"/>
          </p:cNvCxnSpPr>
          <p:nvPr/>
        </p:nvCxnSpPr>
        <p:spPr>
          <a:xfrm flipH="1" flipV="1">
            <a:off x="6678000" y="5097240"/>
            <a:ext cx="94212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48" name=""/>
          <p:cNvCxnSpPr>
            <a:stCxn id="436" idx="2"/>
            <a:endCxn id="444" idx="6"/>
          </p:cNvCxnSpPr>
          <p:nvPr/>
        </p:nvCxnSpPr>
        <p:spPr>
          <a:xfrm rot="5400000">
            <a:off x="7228800" y="4805280"/>
            <a:ext cx="357840" cy="14025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9" name=""/>
          <p:cNvSpPr/>
          <p:nvPr/>
        </p:nvSpPr>
        <p:spPr>
          <a:xfrm>
            <a:off x="6996600" y="53118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0" name=""/>
          <p:cNvCxnSpPr>
            <a:stCxn id="408" idx="2"/>
            <a:endCxn id="437" idx="0"/>
          </p:cNvCxnSpPr>
          <p:nvPr/>
        </p:nvCxnSpPr>
        <p:spPr>
          <a:xfrm rot="5400000">
            <a:off x="7620480" y="4140000"/>
            <a:ext cx="982080" cy="3960"/>
          </a:xfrm>
          <a:prstGeom prst="bentConnector3">
            <a:avLst>
              <a:gd name="adj1" fmla="val 5064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51" name=""/>
          <p:cNvSpPr/>
          <p:nvPr/>
        </p:nvSpPr>
        <p:spPr>
          <a:xfrm>
            <a:off x="370440" y="3449520"/>
            <a:ext cx="1700280" cy="64260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itive_length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152360" y="45752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3" name=""/>
          <p:cNvCxnSpPr>
            <a:stCxn id="451" idx="2"/>
            <a:endCxn id="452" idx="0"/>
          </p:cNvCxnSpPr>
          <p:nvPr/>
        </p:nvCxnSpPr>
        <p:spPr>
          <a:xfrm>
            <a:off x="1220760" y="4133880"/>
            <a:ext cx="8640" cy="427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4" name=""/>
          <p:cNvGraphicFramePr/>
          <p:nvPr/>
        </p:nvGraphicFramePr>
        <p:xfrm>
          <a:off x="314280" y="1200240"/>
          <a:ext cx="8642520" cy="478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1200240"/>
                    <a:ext cx="8642520" cy="47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6" name=""/>
          <p:cNvSpPr/>
          <p:nvPr/>
        </p:nvSpPr>
        <p:spPr>
          <a:xfrm>
            <a:off x="259200" y="311040"/>
            <a:ext cx="2264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152320" y="31104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356640" y="15732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968720" y="441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0" name=""/>
          <p:cNvCxnSpPr>
            <a:stCxn id="456" idx="3"/>
            <a:endCxn id="459" idx="2"/>
          </p:cNvCxnSpPr>
          <p:nvPr/>
        </p:nvCxnSpPr>
        <p:spPr>
          <a:xfrm flipV="1">
            <a:off x="2549160" y="516960"/>
            <a:ext cx="2405880" cy="6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2b2b2"/>
                </a:solidFill>
                <a:latin typeface="Arial"/>
              </a:rPr>
              <a:t>/* Section Profile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01 =</a:t>
            </a: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 SECTION_PROFILE_I_TYPE (1, 'W14x16x500', 'Wide flange beam to ASTM', 'Plastic', $, #202, #203, #204, #205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Section Properties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5 = SECTION_PROPERTIES 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 $, #216, #217, #218, $, $, $, $, $, $, $, #219, #220, $, $, $, $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6 = INERTIA_MEASURE_WITH_UNIT (INERTIA_MEASURE(342200.0), #1151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yy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7 = INERTIA_MEASURE_WITH_UNIT (INERTIA_MEASURE(120000.0), #1151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zz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8 = AREA_MEASURE_WITH_UNIT (AREA_MEASURE(950.0), #1161);     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Ax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9 = MODULUS_MEASURE_WITH_UNIT (MODULUS_MEASURE(17180.0), #1157);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Sy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20 = MODULUS_MEASURE_WITH_UNIT (MODULUS_MEASURE(8558.0), #1157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Sz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ertia &amp; modulus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85840" y="1415880"/>
            <a:ext cx="865800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Inertia Unit (cm4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49 = (LENGTH_UNIT()NAMED_UNIT(*)SI_UNIT(.CENT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0 = DERIVED_UNIT_ELEMENT (#1149, 4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1 = INERTIA_UNIT ((#115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Modulus Unit (cm3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6 = DERIVED_UNIT_ELEMENT (#1149, 3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7 = MODULUS_UNIT ((#1156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087560" y="18921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6" name=""/>
          <p:cNvCxnSpPr>
            <a:stCxn id="467" idx="2"/>
            <a:endCxn id="468" idx="0"/>
          </p:cNvCxnSpPr>
          <p:nvPr/>
        </p:nvCxnSpPr>
        <p:spPr>
          <a:xfrm rot="5400000">
            <a:off x="4476240" y="1758960"/>
            <a:ext cx="373680" cy="1627920"/>
          </a:xfrm>
          <a:prstGeom prst="bentConnector3">
            <a:avLst>
              <a:gd name="adj1" fmla="val 4975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69" name=""/>
          <p:cNvSpPr/>
          <p:nvPr/>
        </p:nvSpPr>
        <p:spPr>
          <a:xfrm>
            <a:off x="1497240" y="5464080"/>
            <a:ext cx="548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379520" y="5199120"/>
            <a:ext cx="187200" cy="1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1" name=""/>
          <p:cNvCxnSpPr>
            <a:stCxn id="472" idx="1"/>
            <a:endCxn id="473" idx="6"/>
          </p:cNvCxnSpPr>
          <p:nvPr/>
        </p:nvCxnSpPr>
        <p:spPr>
          <a:xfrm rot="10800000">
            <a:off x="4806360" y="3152160"/>
            <a:ext cx="2229480" cy="1373760"/>
          </a:xfrm>
          <a:prstGeom prst="bentConnector3">
            <a:avLst>
              <a:gd name="adj1" fmla="val 4037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74" name=""/>
          <p:cNvSpPr/>
          <p:nvPr/>
        </p:nvSpPr>
        <p:spPr>
          <a:xfrm>
            <a:off x="4368600" y="448776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602160" y="140796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6" name=""/>
          <p:cNvCxnSpPr>
            <a:stCxn id="467" idx="2"/>
            <a:endCxn id="477" idx="0"/>
          </p:cNvCxnSpPr>
          <p:nvPr/>
        </p:nvCxnSpPr>
        <p:spPr>
          <a:xfrm flipH="1" rot="16200000">
            <a:off x="6416640" y="1445400"/>
            <a:ext cx="372240" cy="2253240"/>
          </a:xfrm>
          <a:prstGeom prst="bentConnector3">
            <a:avLst>
              <a:gd name="adj1" fmla="val 4995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78" name=""/>
          <p:cNvSpPr/>
          <p:nvPr/>
        </p:nvSpPr>
        <p:spPr>
          <a:xfrm>
            <a:off x="2924640" y="197964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35080" y="2077920"/>
            <a:ext cx="18619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343080" y="206064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105920" y="123048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294160" y="170172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207120" y="64440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646520" y="19368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5" name=""/>
          <p:cNvCxnSpPr>
            <a:stCxn id="475" idx="0"/>
            <a:endCxn id="483" idx="4"/>
          </p:cNvCxnSpPr>
          <p:nvPr/>
        </p:nvCxnSpPr>
        <p:spPr>
          <a:xfrm flipH="1" flipV="1" rot="5400000">
            <a:off x="5264280" y="357480"/>
            <a:ext cx="534240" cy="1539000"/>
          </a:xfrm>
          <a:prstGeom prst="bentConnector3">
            <a:avLst>
              <a:gd name="adj1" fmla="val 511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86" name=""/>
          <p:cNvSpPr/>
          <p:nvPr/>
        </p:nvSpPr>
        <p:spPr>
          <a:xfrm>
            <a:off x="781560" y="398160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093680" y="37958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555920" y="3981600"/>
            <a:ext cx="144360" cy="390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9" name=""/>
          <p:cNvCxnSpPr>
            <a:stCxn id="490" idx="2"/>
            <a:endCxn id="487" idx="0"/>
          </p:cNvCxnSpPr>
          <p:nvPr/>
        </p:nvCxnSpPr>
        <p:spPr>
          <a:xfrm>
            <a:off x="1162080" y="3365280"/>
            <a:ext cx="864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91" name=""/>
          <p:cNvSpPr/>
          <p:nvPr/>
        </p:nvSpPr>
        <p:spPr>
          <a:xfrm>
            <a:off x="2486160" y="4308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829160" y="452268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3" name=""/>
          <p:cNvCxnSpPr>
            <a:stCxn id="494" idx="2"/>
            <a:endCxn id="491" idx="0"/>
          </p:cNvCxnSpPr>
          <p:nvPr/>
        </p:nvCxnSpPr>
        <p:spPr>
          <a:xfrm rot="5400000">
            <a:off x="2539800" y="3399480"/>
            <a:ext cx="920160" cy="842040"/>
          </a:xfrm>
          <a:prstGeom prst="bentConnector3">
            <a:avLst>
              <a:gd name="adj1" fmla="val 5142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90" name=""/>
          <p:cNvSpPr/>
          <p:nvPr/>
        </p:nvSpPr>
        <p:spPr>
          <a:xfrm>
            <a:off x="254880" y="295596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093680" y="27972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422440" y="171468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7" name=""/>
          <p:cNvCxnSpPr>
            <a:stCxn id="479" idx="2"/>
            <a:endCxn id="495" idx="0"/>
          </p:cNvCxnSpPr>
          <p:nvPr/>
        </p:nvCxnSpPr>
        <p:spPr>
          <a:xfrm flipH="1" rot="16200000">
            <a:off x="1019880" y="2633400"/>
            <a:ext cx="29556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98" name=""/>
          <p:cNvSpPr/>
          <p:nvPr/>
        </p:nvSpPr>
        <p:spPr>
          <a:xfrm>
            <a:off x="3364920" y="530208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732120" y="50752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364120" y="516564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493560" y="5297040"/>
            <a:ext cx="1770120" cy="384480"/>
            <a:chOff x="493560" y="5297040"/>
            <a:chExt cx="1770120" cy="384480"/>
          </a:xfrm>
        </p:grpSpPr>
        <p:sp>
          <p:nvSpPr>
            <p:cNvPr id="502" name=""/>
            <p:cNvSpPr/>
            <p:nvPr/>
          </p:nvSpPr>
          <p:spPr>
            <a:xfrm>
              <a:off x="2111400" y="54356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93560" y="531324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2008080" y="529704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912960" y="5842080"/>
            <a:ext cx="1379520" cy="374400"/>
            <a:chOff x="912960" y="5842080"/>
            <a:chExt cx="1379520" cy="374400"/>
          </a:xfrm>
        </p:grpSpPr>
        <p:sp>
          <p:nvSpPr>
            <p:cNvPr id="506" name=""/>
            <p:cNvSpPr/>
            <p:nvPr/>
          </p:nvSpPr>
          <p:spPr>
            <a:xfrm>
              <a:off x="2139840" y="59659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912960" y="5845320"/>
              <a:ext cx="11826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1995480" y="584208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09" name=""/>
          <p:cNvCxnSpPr>
            <a:stCxn id="498" idx="1"/>
            <a:endCxn id="502" idx="6"/>
          </p:cNvCxnSpPr>
          <p:nvPr/>
        </p:nvCxnSpPr>
        <p:spPr>
          <a:xfrm flipH="1" flipV="1">
            <a:off x="2277360" y="5511600"/>
            <a:ext cx="105804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10" name=""/>
          <p:cNvCxnSpPr>
            <a:stCxn id="498" idx="2"/>
            <a:endCxn id="506" idx="6"/>
          </p:cNvCxnSpPr>
          <p:nvPr/>
        </p:nvCxnSpPr>
        <p:spPr>
          <a:xfrm rot="5400000">
            <a:off x="2914920" y="5132880"/>
            <a:ext cx="300600" cy="1518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2595960" y="569736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2" name=""/>
          <p:cNvCxnSpPr>
            <a:stCxn id="513" idx="2"/>
            <a:endCxn id="499" idx="0"/>
          </p:cNvCxnSpPr>
          <p:nvPr/>
        </p:nvCxnSpPr>
        <p:spPr>
          <a:xfrm rot="5400000">
            <a:off x="2998800" y="4215600"/>
            <a:ext cx="1658160" cy="5760"/>
          </a:xfrm>
          <a:prstGeom prst="bentConnector3">
            <a:avLst>
              <a:gd name="adj1" fmla="val 503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14" name=""/>
          <p:cNvSpPr/>
          <p:nvPr/>
        </p:nvSpPr>
        <p:spPr>
          <a:xfrm>
            <a:off x="3813120" y="3128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90600" y="16524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ertia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6" name=""/>
          <p:cNvCxnSpPr>
            <a:stCxn id="484" idx="1"/>
            <a:endCxn id="514" idx="6"/>
          </p:cNvCxnSpPr>
          <p:nvPr/>
        </p:nvCxnSpPr>
        <p:spPr>
          <a:xfrm rot="10800000">
            <a:off x="4029120" y="405720"/>
            <a:ext cx="603720" cy="1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17" name=""/>
          <p:cNvCxnSpPr>
            <a:stCxn id="475" idx="1"/>
            <a:endCxn id="465" idx="0"/>
          </p:cNvCxnSpPr>
          <p:nvPr/>
        </p:nvCxnSpPr>
        <p:spPr>
          <a:xfrm flipV="1" rot="10800000">
            <a:off x="1162800" y="1619640"/>
            <a:ext cx="2412360" cy="2581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18" name=""/>
          <p:cNvSpPr/>
          <p:nvPr/>
        </p:nvSpPr>
        <p:spPr>
          <a:xfrm>
            <a:off x="203040" y="669960"/>
            <a:ext cx="3573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ulus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813120" y="76032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"/>
          <p:cNvCxnSpPr>
            <a:stCxn id="519" idx="6"/>
            <a:endCxn id="484" idx="1"/>
          </p:cNvCxnSpPr>
          <p:nvPr/>
        </p:nvCxnSpPr>
        <p:spPr>
          <a:xfrm flipV="1">
            <a:off x="4029120" y="405720"/>
            <a:ext cx="603720" cy="448200"/>
          </a:xfrm>
          <a:prstGeom prst="bentConnector3">
            <a:avLst>
              <a:gd name="adj1" fmla="val 48687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21" name=""/>
          <p:cNvCxnSpPr>
            <a:endCxn id="522" idx="2"/>
          </p:cNvCxnSpPr>
          <p:nvPr/>
        </p:nvCxnSpPr>
        <p:spPr>
          <a:xfrm flipH="1" rot="16200000">
            <a:off x="4683960" y="1897560"/>
            <a:ext cx="365760" cy="208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23" name=""/>
          <p:cNvSpPr/>
          <p:nvPr/>
        </p:nvSpPr>
        <p:spPr>
          <a:xfrm>
            <a:off x="6171120" y="411624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050240" y="4160880"/>
            <a:ext cx="1695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uni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"/>
          <p:cNvCxnSpPr>
            <a:stCxn id="525" idx="2"/>
            <a:endCxn id="526" idx="0"/>
          </p:cNvCxnSpPr>
          <p:nvPr/>
        </p:nvCxnSpPr>
        <p:spPr>
          <a:xfrm flipH="1">
            <a:off x="7729200" y="3390480"/>
            <a:ext cx="10080" cy="578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27" name=""/>
          <p:cNvGrpSpPr/>
          <p:nvPr/>
        </p:nvGrpSpPr>
        <p:grpSpPr>
          <a:xfrm>
            <a:off x="7511040" y="5410080"/>
            <a:ext cx="918360" cy="576000"/>
            <a:chOff x="7511040" y="5410080"/>
            <a:chExt cx="918360" cy="576000"/>
          </a:xfrm>
        </p:grpSpPr>
        <p:sp>
          <p:nvSpPr>
            <p:cNvPr id="528" name=""/>
            <p:cNvSpPr/>
            <p:nvPr/>
          </p:nvSpPr>
          <p:spPr>
            <a:xfrm>
              <a:off x="7511040" y="559584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823160" y="5410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285040" y="559584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31" name=""/>
          <p:cNvCxnSpPr>
            <a:stCxn id="472" idx="2"/>
            <a:endCxn id="529" idx="0"/>
          </p:cNvCxnSpPr>
          <p:nvPr/>
        </p:nvCxnSpPr>
        <p:spPr>
          <a:xfrm>
            <a:off x="7897320" y="4905000"/>
            <a:ext cx="2520" cy="491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32" name=""/>
          <p:cNvSpPr/>
          <p:nvPr/>
        </p:nvSpPr>
        <p:spPr>
          <a:xfrm>
            <a:off x="7850880" y="500544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664320" y="3433680"/>
            <a:ext cx="18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130720" y="1976400"/>
            <a:ext cx="6904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5226120" y="19447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984920" y="21081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653240" y="39830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6954120" y="2771640"/>
            <a:ext cx="1569240" cy="578160"/>
            <a:chOff x="6954120" y="2771640"/>
            <a:chExt cx="1569240" cy="578160"/>
          </a:xfrm>
        </p:grpSpPr>
        <p:sp>
          <p:nvSpPr>
            <p:cNvPr id="525" name=""/>
            <p:cNvSpPr/>
            <p:nvPr/>
          </p:nvSpPr>
          <p:spPr>
            <a:xfrm>
              <a:off x="6954120" y="29509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653240" y="27716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3075120" y="2773440"/>
            <a:ext cx="1717560" cy="574920"/>
            <a:chOff x="3075120" y="2773440"/>
            <a:chExt cx="1717560" cy="574920"/>
          </a:xfrm>
        </p:grpSpPr>
        <p:sp>
          <p:nvSpPr>
            <p:cNvPr id="513" name=""/>
            <p:cNvSpPr/>
            <p:nvPr/>
          </p:nvSpPr>
          <p:spPr>
            <a:xfrm>
              <a:off x="3075120" y="294948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773520" y="27734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640400" y="307656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4243320" y="3201840"/>
            <a:ext cx="201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"/>
          <p:cNvCxnSpPr>
            <a:stCxn id="537" idx="2"/>
            <a:endCxn id="539" idx="0"/>
          </p:cNvCxnSpPr>
          <p:nvPr/>
        </p:nvCxnSpPr>
        <p:spPr>
          <a:xfrm flipH="1" rot="16200000">
            <a:off x="4372560" y="3331800"/>
            <a:ext cx="1766160" cy="1823400"/>
          </a:xfrm>
          <a:prstGeom prst="bentConnector3">
            <a:avLst>
              <a:gd name="adj1" fmla="val 8379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40" name=""/>
          <p:cNvCxnSpPr>
            <a:stCxn id="498" idx="3"/>
            <a:endCxn id="539" idx="1"/>
          </p:cNvCxnSpPr>
          <p:nvPr/>
        </p:nvCxnSpPr>
        <p:spPr>
          <a:xfrm flipV="1">
            <a:off x="4311720" y="5505120"/>
            <a:ext cx="1056240" cy="10080"/>
          </a:xfrm>
          <a:prstGeom prst="bentConnector3">
            <a:avLst>
              <a:gd name="adj1" fmla="val 4991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94" name=""/>
          <p:cNvSpPr/>
          <p:nvPr/>
        </p:nvSpPr>
        <p:spPr>
          <a:xfrm>
            <a:off x="3319560" y="3201840"/>
            <a:ext cx="201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5202360" y="4948200"/>
            <a:ext cx="1734120" cy="895680"/>
            <a:chOff x="5202360" y="4948200"/>
            <a:chExt cx="1734120" cy="895680"/>
          </a:xfrm>
        </p:grpSpPr>
        <p:sp>
          <p:nvSpPr>
            <p:cNvPr id="539" name=""/>
            <p:cNvSpPr/>
            <p:nvPr/>
          </p:nvSpPr>
          <p:spPr>
            <a:xfrm>
              <a:off x="5396400" y="5140080"/>
              <a:ext cx="1540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men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x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081840" y="4948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202360" y="543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4273560" y="5168880"/>
            <a:ext cx="103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T 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6781680" y="1754280"/>
            <a:ext cx="1908000" cy="398880"/>
            <a:chOff x="6781680" y="1754280"/>
            <a:chExt cx="1908000" cy="398880"/>
          </a:xfrm>
        </p:grpSpPr>
        <p:sp>
          <p:nvSpPr>
            <p:cNvPr id="546" name=""/>
            <p:cNvSpPr/>
            <p:nvPr/>
          </p:nvSpPr>
          <p:spPr>
            <a:xfrm>
              <a:off x="6781680" y="1754280"/>
              <a:ext cx="1695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odulu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502480" y="18720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48" name=""/>
          <p:cNvCxnSpPr>
            <a:stCxn id="547" idx="6"/>
            <a:endCxn id="525" idx="3"/>
          </p:cNvCxnSpPr>
          <p:nvPr/>
        </p:nvCxnSpPr>
        <p:spPr>
          <a:xfrm flipH="1">
            <a:off x="8551440" y="1965240"/>
            <a:ext cx="167040" cy="1199520"/>
          </a:xfrm>
          <a:prstGeom prst="bentConnector3">
            <a:avLst>
              <a:gd name="adj1" fmla="val -120086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49" name=""/>
          <p:cNvGrpSpPr/>
          <p:nvPr/>
        </p:nvGrpSpPr>
        <p:grpSpPr>
          <a:xfrm>
            <a:off x="7053840" y="1251000"/>
            <a:ext cx="1650600" cy="398880"/>
            <a:chOff x="7053840" y="1251000"/>
            <a:chExt cx="1650600" cy="398880"/>
          </a:xfrm>
        </p:grpSpPr>
        <p:sp>
          <p:nvSpPr>
            <p:cNvPr id="550" name=""/>
            <p:cNvSpPr/>
            <p:nvPr/>
          </p:nvSpPr>
          <p:spPr>
            <a:xfrm>
              <a:off x="7053840" y="125100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nertia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517240" y="13813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52" name=""/>
          <p:cNvCxnSpPr>
            <a:stCxn id="551" idx="6"/>
            <a:endCxn id="525" idx="3"/>
          </p:cNvCxnSpPr>
          <p:nvPr/>
        </p:nvCxnSpPr>
        <p:spPr>
          <a:xfrm flipH="1">
            <a:off x="8551080" y="1474920"/>
            <a:ext cx="181800" cy="1689840"/>
          </a:xfrm>
          <a:prstGeom prst="bentConnector3">
            <a:avLst>
              <a:gd name="adj1" fmla="val -110515"/>
            </a:avLst>
          </a:prstGeom>
          <a:ln w="7632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rea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285840" y="1415880"/>
            <a:ext cx="865800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Area Unit (cm2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149 = (LENGTH_UNIT()NAMED_UNIT(*)SI_UNIT(.CENT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1 = (AREA_UNIT()CONVERSION_BASED_UNIT('square centimetre', #1162)NAMED_UNIT(#1165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2 = MEASURE_WITH_UNIT (NUMERIC_MEASURE(1.0), #1163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3 = DERIVED_UNIT ((#1164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4 = DERIVED_UNIT_ELEMENT (#1149, 2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5 = DIMENSIONAL_EXPONENTS (2.0, 0.0, 0.0, 0.0, 0.0, 0.0, 0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1087560" y="1924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"/>
          <p:cNvCxnSpPr>
            <a:stCxn id="557" idx="2"/>
            <a:endCxn id="558" idx="0"/>
          </p:cNvCxnSpPr>
          <p:nvPr/>
        </p:nvCxnSpPr>
        <p:spPr>
          <a:xfrm rot="5400000">
            <a:off x="6061320" y="1298880"/>
            <a:ext cx="548280" cy="2785320"/>
          </a:xfrm>
          <a:prstGeom prst="bentConnector3">
            <a:avLst>
              <a:gd name="adj1" fmla="val 49802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59" name=""/>
          <p:cNvSpPr/>
          <p:nvPr/>
        </p:nvSpPr>
        <p:spPr>
          <a:xfrm>
            <a:off x="1539720" y="5641920"/>
            <a:ext cx="7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0" name=""/>
          <p:cNvCxnSpPr>
            <a:stCxn id="561" idx="1"/>
            <a:endCxn id="562" idx="6"/>
          </p:cNvCxnSpPr>
          <p:nvPr/>
        </p:nvCxnSpPr>
        <p:spPr>
          <a:xfrm rot="10800000">
            <a:off x="5900040" y="3367800"/>
            <a:ext cx="1151640" cy="1335960"/>
          </a:xfrm>
          <a:prstGeom prst="bentConnector3">
            <a:avLst>
              <a:gd name="adj1" fmla="val 4990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63" name=""/>
          <p:cNvSpPr/>
          <p:nvPr/>
        </p:nvSpPr>
        <p:spPr>
          <a:xfrm>
            <a:off x="5335560" y="49244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0216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5" name=""/>
          <p:cNvCxnSpPr>
            <a:stCxn id="557" idx="2"/>
            <a:endCxn id="566" idx="0"/>
          </p:cNvCxnSpPr>
          <p:nvPr/>
        </p:nvCxnSpPr>
        <p:spPr>
          <a:xfrm flipH="1" rot="16200000">
            <a:off x="7528680" y="2616480"/>
            <a:ext cx="531000" cy="1324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67" name=""/>
          <p:cNvSpPr/>
          <p:nvPr/>
        </p:nvSpPr>
        <p:spPr>
          <a:xfrm>
            <a:off x="6026760" y="12762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35080" y="2109960"/>
            <a:ext cx="18619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343080" y="20923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105920" y="12621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0712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64652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4" name=""/>
          <p:cNvCxnSpPr>
            <a:stCxn id="564" idx="0"/>
            <a:endCxn id="572" idx="4"/>
          </p:cNvCxnSpPr>
          <p:nvPr/>
        </p:nvCxnSpPr>
        <p:spPr>
          <a:xfrm flipH="1" flipV="1" rot="5400000">
            <a:off x="5264280" y="389160"/>
            <a:ext cx="534240" cy="1539000"/>
          </a:xfrm>
          <a:prstGeom prst="bentConnector3">
            <a:avLst>
              <a:gd name="adj1" fmla="val 511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75" name=""/>
          <p:cNvSpPr/>
          <p:nvPr/>
        </p:nvSpPr>
        <p:spPr>
          <a:xfrm>
            <a:off x="680040" y="399888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079640" y="38131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69880" y="3998880"/>
            <a:ext cx="14472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8" name=""/>
          <p:cNvCxnSpPr>
            <a:stCxn id="579" idx="2"/>
            <a:endCxn id="576" idx="0"/>
          </p:cNvCxnSpPr>
          <p:nvPr/>
        </p:nvCxnSpPr>
        <p:spPr>
          <a:xfrm>
            <a:off x="1150560" y="3396960"/>
            <a:ext cx="5400" cy="402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80" name=""/>
          <p:cNvGrpSpPr/>
          <p:nvPr/>
        </p:nvGrpSpPr>
        <p:grpSpPr>
          <a:xfrm>
            <a:off x="2868480" y="3589200"/>
            <a:ext cx="1243080" cy="613080"/>
            <a:chOff x="2868480" y="3589200"/>
            <a:chExt cx="1243080" cy="613080"/>
          </a:xfrm>
        </p:grpSpPr>
        <p:sp>
          <p:nvSpPr>
            <p:cNvPr id="581" name=""/>
            <p:cNvSpPr/>
            <p:nvPr/>
          </p:nvSpPr>
          <p:spPr>
            <a:xfrm>
              <a:off x="3410280" y="35892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868480" y="3803400"/>
              <a:ext cx="1243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rea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83" name=""/>
          <p:cNvCxnSpPr>
            <a:stCxn id="584" idx="2"/>
            <a:endCxn id="585" idx="6"/>
          </p:cNvCxnSpPr>
          <p:nvPr/>
        </p:nvCxnSpPr>
        <p:spPr>
          <a:xfrm rot="5400000">
            <a:off x="3605040" y="3667680"/>
            <a:ext cx="1386720" cy="1251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79" name=""/>
          <p:cNvSpPr/>
          <p:nvPr/>
        </p:nvSpPr>
        <p:spPr>
          <a:xfrm>
            <a:off x="325800" y="2987640"/>
            <a:ext cx="164988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a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093680" y="28288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8" name=""/>
          <p:cNvCxnSpPr>
            <a:stCxn id="568" idx="2"/>
            <a:endCxn id="586" idx="0"/>
          </p:cNvCxnSpPr>
          <p:nvPr/>
        </p:nvCxnSpPr>
        <p:spPr>
          <a:xfrm flipH="1" rot="16200000">
            <a:off x="1019880" y="2665080"/>
            <a:ext cx="29556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89" name=""/>
          <p:cNvSpPr/>
          <p:nvPr/>
        </p:nvSpPr>
        <p:spPr>
          <a:xfrm>
            <a:off x="1863360" y="4597560"/>
            <a:ext cx="1569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457440" y="48927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0" name=""/>
          <p:cNvCxnSpPr>
            <a:stCxn id="589" idx="0"/>
            <a:endCxn id="564" idx="2"/>
          </p:cNvCxnSpPr>
          <p:nvPr/>
        </p:nvCxnSpPr>
        <p:spPr>
          <a:xfrm flipH="1" flipV="1" rot="5400000">
            <a:off x="2352960" y="2173680"/>
            <a:ext cx="2704320" cy="2115360"/>
          </a:xfrm>
          <a:prstGeom prst="bentConnector3">
            <a:avLst>
              <a:gd name="adj1" fmla="val 68685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91" name=""/>
          <p:cNvSpPr/>
          <p:nvPr/>
        </p:nvSpPr>
        <p:spPr>
          <a:xfrm>
            <a:off x="2581200" y="2352600"/>
            <a:ext cx="19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version_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2" name=""/>
          <p:cNvCxnSpPr>
            <a:stCxn id="584" idx="1"/>
            <a:endCxn id="581" idx="0"/>
          </p:cNvCxnSpPr>
          <p:nvPr/>
        </p:nvCxnSpPr>
        <p:spPr>
          <a:xfrm flipV="1" rot="10800000">
            <a:off x="3502800" y="3373200"/>
            <a:ext cx="637560" cy="187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93" name=""/>
          <p:cNvSpPr/>
          <p:nvPr/>
        </p:nvSpPr>
        <p:spPr>
          <a:xfrm>
            <a:off x="176544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9060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a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5" name=""/>
          <p:cNvCxnSpPr>
            <a:stCxn id="564" idx="1"/>
            <a:endCxn id="555" idx="0"/>
          </p:cNvCxnSpPr>
          <p:nvPr/>
        </p:nvCxnSpPr>
        <p:spPr>
          <a:xfrm flipV="1" rot="10800000">
            <a:off x="1162800" y="1652400"/>
            <a:ext cx="2412360" cy="257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96" name=""/>
          <p:cNvCxnSpPr>
            <a:stCxn id="593" idx="4"/>
            <a:endCxn id="564" idx="0"/>
          </p:cNvCxnSpPr>
          <p:nvPr/>
        </p:nvCxnSpPr>
        <p:spPr>
          <a:xfrm flipH="1" rot="16200000">
            <a:off x="3043080" y="-293040"/>
            <a:ext cx="534240" cy="2904120"/>
          </a:xfrm>
          <a:prstGeom prst="bentConnector3">
            <a:avLst>
              <a:gd name="adj1" fmla="val 48482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97" name=""/>
          <p:cNvCxnSpPr>
            <a:stCxn id="564" idx="3"/>
            <a:endCxn id="598" idx="0"/>
          </p:cNvCxnSpPr>
          <p:nvPr/>
        </p:nvCxnSpPr>
        <p:spPr>
          <a:xfrm>
            <a:off x="5947920" y="1652400"/>
            <a:ext cx="1769400" cy="170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99" name=""/>
          <p:cNvSpPr/>
          <p:nvPr/>
        </p:nvSpPr>
        <p:spPr>
          <a:xfrm>
            <a:off x="5941080" y="29782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0" name=""/>
          <p:cNvCxnSpPr>
            <a:stCxn id="601" idx="2"/>
            <a:endCxn id="602" idx="0"/>
          </p:cNvCxnSpPr>
          <p:nvPr/>
        </p:nvCxnSpPr>
        <p:spPr>
          <a:xfrm flipH="1">
            <a:off x="7859520" y="3581280"/>
            <a:ext cx="1008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603" name=""/>
          <p:cNvGrpSpPr/>
          <p:nvPr/>
        </p:nvGrpSpPr>
        <p:grpSpPr>
          <a:xfrm>
            <a:off x="7482600" y="5456160"/>
            <a:ext cx="918360" cy="576000"/>
            <a:chOff x="7482600" y="5456160"/>
            <a:chExt cx="918360" cy="576000"/>
          </a:xfrm>
        </p:grpSpPr>
        <p:sp>
          <p:nvSpPr>
            <p:cNvPr id="604" name=""/>
            <p:cNvSpPr/>
            <p:nvPr/>
          </p:nvSpPr>
          <p:spPr>
            <a:xfrm>
              <a:off x="7482600" y="56419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794720" y="5456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256600" y="564192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07" name=""/>
          <p:cNvCxnSpPr>
            <a:stCxn id="561" idx="2"/>
            <a:endCxn id="605" idx="0"/>
          </p:cNvCxnSpPr>
          <p:nvPr/>
        </p:nvCxnSpPr>
        <p:spPr>
          <a:xfrm>
            <a:off x="7864200" y="5082840"/>
            <a:ext cx="6840" cy="359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08" name=""/>
          <p:cNvSpPr/>
          <p:nvPr/>
        </p:nvSpPr>
        <p:spPr>
          <a:xfrm>
            <a:off x="7836840" y="506736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794640" y="3754440"/>
            <a:ext cx="18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7381800" y="1836720"/>
            <a:ext cx="690480" cy="539640"/>
            <a:chOff x="7381800" y="1836720"/>
            <a:chExt cx="690480" cy="539640"/>
          </a:xfrm>
        </p:grpSpPr>
        <p:sp>
          <p:nvSpPr>
            <p:cNvPr id="557" name=""/>
            <p:cNvSpPr/>
            <p:nvPr/>
          </p:nvSpPr>
          <p:spPr>
            <a:xfrm>
              <a:off x="7381800" y="2008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7476840" y="19764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640280" y="1836720"/>
              <a:ext cx="15192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7079760" y="4175280"/>
            <a:ext cx="1569240" cy="867240"/>
            <a:chOff x="7079760" y="4175280"/>
            <a:chExt cx="1569240" cy="867240"/>
          </a:xfrm>
        </p:grpSpPr>
        <p:sp>
          <p:nvSpPr>
            <p:cNvPr id="561" name=""/>
            <p:cNvSpPr/>
            <p:nvPr/>
          </p:nvSpPr>
          <p:spPr>
            <a:xfrm>
              <a:off x="7079760" y="4338720"/>
              <a:ext cx="156924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783560" y="417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7084440" y="2962440"/>
            <a:ext cx="1569240" cy="578160"/>
            <a:chOff x="7084440" y="2962440"/>
            <a:chExt cx="1569240" cy="578160"/>
          </a:xfrm>
        </p:grpSpPr>
        <p:sp>
          <p:nvSpPr>
            <p:cNvPr id="601" name=""/>
            <p:cNvSpPr/>
            <p:nvPr/>
          </p:nvSpPr>
          <p:spPr>
            <a:xfrm>
              <a:off x="7084440" y="31417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783560" y="29624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14" name=""/>
          <p:cNvCxnSpPr>
            <a:stCxn id="615" idx="2"/>
            <a:endCxn id="616" idx="0"/>
          </p:cNvCxnSpPr>
          <p:nvPr/>
        </p:nvCxnSpPr>
        <p:spPr>
          <a:xfrm flipH="1" rot="16200000">
            <a:off x="4392360" y="4523040"/>
            <a:ext cx="1896120" cy="9000"/>
          </a:xfrm>
          <a:prstGeom prst="bentConnector3">
            <a:avLst>
              <a:gd name="adj1" fmla="val 50322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617" name=""/>
          <p:cNvGrpSpPr/>
          <p:nvPr/>
        </p:nvGrpSpPr>
        <p:grpSpPr>
          <a:xfrm>
            <a:off x="4168800" y="2979720"/>
            <a:ext cx="1717560" cy="599400"/>
            <a:chOff x="4168800" y="2979720"/>
            <a:chExt cx="1717560" cy="599400"/>
          </a:xfrm>
        </p:grpSpPr>
        <p:grpSp>
          <p:nvGrpSpPr>
            <p:cNvPr id="618" name=""/>
            <p:cNvGrpSpPr/>
            <p:nvPr/>
          </p:nvGrpSpPr>
          <p:grpSpPr>
            <a:xfrm>
              <a:off x="4168800" y="2979720"/>
              <a:ext cx="1717560" cy="579240"/>
              <a:chOff x="4168800" y="2979720"/>
              <a:chExt cx="1717560" cy="579240"/>
            </a:xfrm>
          </p:grpSpPr>
          <p:sp>
            <p:nvSpPr>
              <p:cNvPr id="584" name=""/>
              <p:cNvSpPr/>
              <p:nvPr/>
            </p:nvSpPr>
            <p:spPr>
              <a:xfrm>
                <a:off x="4168800" y="3160080"/>
                <a:ext cx="15112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named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867200" y="2979720"/>
                <a:ext cx="152640" cy="1562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734080" y="3290040"/>
                <a:ext cx="152280" cy="1558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5" name=""/>
            <p:cNvSpPr/>
            <p:nvPr/>
          </p:nvSpPr>
          <p:spPr>
            <a:xfrm>
              <a:off x="5235480" y="3416760"/>
              <a:ext cx="201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311720" y="3416760"/>
              <a:ext cx="201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4574160" y="5297400"/>
            <a:ext cx="1540080" cy="896040"/>
            <a:chOff x="4574160" y="5297400"/>
            <a:chExt cx="1540080" cy="896040"/>
          </a:xfrm>
        </p:grpSpPr>
        <p:sp>
          <p:nvSpPr>
            <p:cNvPr id="616" name=""/>
            <p:cNvSpPr/>
            <p:nvPr/>
          </p:nvSpPr>
          <p:spPr>
            <a:xfrm>
              <a:off x="4574160" y="5489640"/>
              <a:ext cx="1540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men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x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259600" y="5297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>
            <a:off x="1219320" y="59324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832200" y="701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26680" y="580392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5" name=""/>
          <p:cNvCxnSpPr>
            <a:stCxn id="589" idx="2"/>
            <a:endCxn id="622" idx="6"/>
          </p:cNvCxnSpPr>
          <p:nvPr/>
        </p:nvCxnSpPr>
        <p:spPr>
          <a:xfrm rot="5400000">
            <a:off x="1682640" y="5044320"/>
            <a:ext cx="667440" cy="126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Passed by reference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1 = ITEM_REFERENCE_STANDARD ('W1100X424', #302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2 = ITEM_REF_SOURCE_STANDARD ('ASTM', 'ASTM_A6M', 1994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3 = SECTION_PROFILE (2, 'W', 'Wide flange beam to ASTM', 'Plastic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4 = ITEM_REFERENCE_ASSIGNED (#301, #30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rfac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520680" y="503388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1131840" y="2057400"/>
            <a:ext cx="2301840" cy="398880"/>
            <a:chOff x="1131840" y="2057400"/>
            <a:chExt cx="2301840" cy="398880"/>
          </a:xfrm>
        </p:grpSpPr>
        <p:sp>
          <p:nvSpPr>
            <p:cNvPr id="631" name=""/>
            <p:cNvSpPr/>
            <p:nvPr/>
          </p:nvSpPr>
          <p:spPr>
            <a:xfrm>
              <a:off x="1369440" y="2057400"/>
              <a:ext cx="2064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5410800" y="337500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rface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5" name=""/>
          <p:cNvCxnSpPr>
            <a:stCxn id="634" idx="2"/>
            <a:endCxn id="632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36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480440" y="36590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663680" y="3513240"/>
            <a:ext cx="10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1824120" y="2678040"/>
            <a:ext cx="3179160" cy="398880"/>
            <a:chOff x="1824120" y="2678040"/>
            <a:chExt cx="3179160" cy="398880"/>
          </a:xfrm>
        </p:grpSpPr>
        <p:sp>
          <p:nvSpPr>
            <p:cNvPr id="640" name=""/>
            <p:cNvSpPr/>
            <p:nvPr/>
          </p:nvSpPr>
          <p:spPr>
            <a:xfrm>
              <a:off x="2061000" y="2678040"/>
              <a:ext cx="2942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42" name=""/>
          <p:cNvCxnSpPr>
            <a:stCxn id="643" idx="2"/>
            <a:endCxn id="641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44" name=""/>
          <p:cNvGrpSpPr/>
          <p:nvPr/>
        </p:nvGrpSpPr>
        <p:grpSpPr>
          <a:xfrm>
            <a:off x="1838160" y="3514680"/>
            <a:ext cx="3391200" cy="398880"/>
            <a:chOff x="1838160" y="3514680"/>
            <a:chExt cx="3391200" cy="398880"/>
          </a:xfrm>
        </p:grpSpPr>
        <p:sp>
          <p:nvSpPr>
            <p:cNvPr id="645" name=""/>
            <p:cNvSpPr/>
            <p:nvPr/>
          </p:nvSpPr>
          <p:spPr>
            <a:xfrm>
              <a:off x="2073960" y="3514680"/>
              <a:ext cx="3155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47" name=""/>
          <p:cNvCxnSpPr>
            <a:stCxn id="643" idx="2"/>
            <a:endCxn id="646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43" name="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7583400" y="5187960"/>
            <a:ext cx="1030680" cy="398880"/>
            <a:chOff x="7583400" y="5187960"/>
            <a:chExt cx="1030680" cy="398880"/>
          </a:xfrm>
        </p:grpSpPr>
        <p:sp>
          <p:nvSpPr>
            <p:cNvPr id="649" name=""/>
            <p:cNvSpPr/>
            <p:nvPr/>
          </p:nvSpPr>
          <p:spPr>
            <a:xfrm>
              <a:off x="7808400" y="518796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583400" y="53197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51" name=""/>
          <p:cNvCxnSpPr>
            <a:stCxn id="652" idx="3"/>
            <a:endCxn id="650" idx="2"/>
          </p:cNvCxnSpPr>
          <p:nvPr/>
        </p:nvCxnSpPr>
        <p:spPr>
          <a:xfrm flipV="1">
            <a:off x="6183360" y="5412600"/>
            <a:ext cx="1386720" cy="2520"/>
          </a:xfrm>
          <a:prstGeom prst="bentConnector3">
            <a:avLst>
              <a:gd name="adj1" fmla="val 49935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53" name=""/>
          <p:cNvCxnSpPr>
            <a:stCxn id="645" idx="3"/>
            <a:endCxn id="637" idx="2"/>
          </p:cNvCxnSpPr>
          <p:nvPr/>
        </p:nvCxnSpPr>
        <p:spPr>
          <a:xfrm>
            <a:off x="5254200" y="3727440"/>
            <a:ext cx="22122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54" name="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2879640" y="5202360"/>
            <a:ext cx="3277800" cy="398880"/>
            <a:chOff x="2879640" y="5202360"/>
            <a:chExt cx="3277800" cy="398880"/>
          </a:xfrm>
        </p:grpSpPr>
        <p:sp>
          <p:nvSpPr>
            <p:cNvPr id="652" name=""/>
            <p:cNvSpPr/>
            <p:nvPr/>
          </p:nvSpPr>
          <p:spPr>
            <a:xfrm>
              <a:off x="3116160" y="5202360"/>
              <a:ext cx="304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profi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879640" y="53337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58" name=""/>
          <p:cNvCxnSpPr>
            <a:stCxn id="654" idx="2"/>
            <a:endCxn id="657" idx="2"/>
          </p:cNvCxnSpPr>
          <p:nvPr/>
        </p:nvCxnSpPr>
        <p:spPr>
          <a:xfrm flipH="1" rot="16200000">
            <a:off x="1897560" y="4474800"/>
            <a:ext cx="1500840" cy="405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59" name=""/>
          <p:cNvGrpSpPr/>
          <p:nvPr/>
        </p:nvGrpSpPr>
        <p:grpSpPr>
          <a:xfrm>
            <a:off x="2847960" y="4394160"/>
            <a:ext cx="3066480" cy="398880"/>
            <a:chOff x="2847960" y="4394160"/>
            <a:chExt cx="3066480" cy="398880"/>
          </a:xfrm>
        </p:grpSpPr>
        <p:sp>
          <p:nvSpPr>
            <p:cNvPr id="660" name=""/>
            <p:cNvSpPr/>
            <p:nvPr/>
          </p:nvSpPr>
          <p:spPr>
            <a:xfrm>
              <a:off x="3084840" y="4394160"/>
              <a:ext cx="2829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pla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847960" y="4525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2" name=""/>
          <p:cNvCxnSpPr>
            <a:stCxn id="654" idx="2"/>
            <a:endCxn id="661" idx="2"/>
          </p:cNvCxnSpPr>
          <p:nvPr/>
        </p:nvCxnSpPr>
        <p:spPr>
          <a:xfrm flipH="1" rot="16200000">
            <a:off x="2286000" y="4086720"/>
            <a:ext cx="692640" cy="374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63" name=""/>
          <p:cNvSpPr/>
          <p:nvPr/>
        </p:nvSpPr>
        <p:spPr>
          <a:xfrm>
            <a:off x="1168200" y="25401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076120" y="415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560120" y="1789200"/>
            <a:ext cx="134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um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5873760" y="2671920"/>
            <a:ext cx="2913120" cy="374400"/>
            <a:chOff x="5873760" y="2671920"/>
            <a:chExt cx="2913120" cy="374400"/>
          </a:xfrm>
        </p:grpSpPr>
        <p:sp>
          <p:nvSpPr>
            <p:cNvPr id="667" name=""/>
            <p:cNvSpPr/>
            <p:nvPr/>
          </p:nvSpPr>
          <p:spPr>
            <a:xfrm>
              <a:off x="5873760" y="2822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032520" y="2674800"/>
              <a:ext cx="27543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_surface_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8659800" y="26719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0" name=""/>
          <p:cNvSpPr/>
          <p:nvPr/>
        </p:nvSpPr>
        <p:spPr>
          <a:xfrm>
            <a:off x="5962680" y="20876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127920" y="1951200"/>
            <a:ext cx="2625480" cy="368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ne_stress_or_st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8626320" y="1932120"/>
            <a:ext cx="0" cy="374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3" name=""/>
          <p:cNvCxnSpPr>
            <a:stCxn id="640" idx="3"/>
            <a:endCxn id="667" idx="2"/>
          </p:cNvCxnSpPr>
          <p:nvPr/>
        </p:nvCxnSpPr>
        <p:spPr>
          <a:xfrm>
            <a:off x="5029200" y="2890800"/>
            <a:ext cx="83088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74" name=""/>
          <p:cNvCxnSpPr>
            <a:stCxn id="675" idx="0"/>
            <a:endCxn id="670" idx="2"/>
          </p:cNvCxnSpPr>
          <p:nvPr/>
        </p:nvCxnSpPr>
        <p:spPr>
          <a:xfrm flipH="1" flipV="1" rot="5400000">
            <a:off x="5008320" y="1744200"/>
            <a:ext cx="521640" cy="13593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76" name=""/>
          <p:cNvSpPr/>
          <p:nvPr/>
        </p:nvSpPr>
        <p:spPr>
          <a:xfrm>
            <a:off x="5076000" y="25113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444920" y="26845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508800" y="1255680"/>
            <a:ext cx="2062080" cy="345960"/>
          </a:xfrm>
          <a:prstGeom prst="parallelogram">
            <a:avLst>
              <a:gd name="adj" fmla="val 149011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Volum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1131840" y="2057400"/>
            <a:ext cx="2288160" cy="398880"/>
            <a:chOff x="1131840" y="2057400"/>
            <a:chExt cx="2288160" cy="398880"/>
          </a:xfrm>
        </p:grpSpPr>
        <p:sp>
          <p:nvSpPr>
            <p:cNvPr id="680" name=""/>
            <p:cNvSpPr/>
            <p:nvPr/>
          </p:nvSpPr>
          <p:spPr>
            <a:xfrm>
              <a:off x="1370880" y="2057400"/>
              <a:ext cx="2049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5265000" y="337500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4" name=""/>
          <p:cNvCxnSpPr>
            <a:stCxn id="683" idx="2"/>
            <a:endCxn id="681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85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122880" y="36590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303600" y="351324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1824120" y="2678040"/>
            <a:ext cx="3165120" cy="398880"/>
            <a:chOff x="1824120" y="2678040"/>
            <a:chExt cx="3165120" cy="398880"/>
          </a:xfrm>
        </p:grpSpPr>
        <p:sp>
          <p:nvSpPr>
            <p:cNvPr id="689" name=""/>
            <p:cNvSpPr/>
            <p:nvPr/>
          </p:nvSpPr>
          <p:spPr>
            <a:xfrm>
              <a:off x="2062440" y="2678040"/>
              <a:ext cx="29268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91" name=""/>
          <p:cNvCxnSpPr>
            <a:stCxn id="692" idx="2"/>
            <a:endCxn id="690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93" name=""/>
          <p:cNvGrpSpPr/>
          <p:nvPr/>
        </p:nvGrpSpPr>
        <p:grpSpPr>
          <a:xfrm>
            <a:off x="1838160" y="3514680"/>
            <a:ext cx="3377520" cy="398880"/>
            <a:chOff x="1838160" y="3514680"/>
            <a:chExt cx="3377520" cy="398880"/>
          </a:xfrm>
        </p:grpSpPr>
        <p:sp>
          <p:nvSpPr>
            <p:cNvPr id="694" name=""/>
            <p:cNvSpPr/>
            <p:nvPr/>
          </p:nvSpPr>
          <p:spPr>
            <a:xfrm>
              <a:off x="2075400" y="3514680"/>
              <a:ext cx="3140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96" name=""/>
          <p:cNvCxnSpPr>
            <a:stCxn id="692" idx="2"/>
            <a:endCxn id="695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92" name="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7" name=""/>
          <p:cNvCxnSpPr>
            <a:stCxn id="694" idx="3"/>
            <a:endCxn id="686" idx="2"/>
          </p:cNvCxnSpPr>
          <p:nvPr/>
        </p:nvCxnSpPr>
        <p:spPr>
          <a:xfrm>
            <a:off x="5241960" y="3727440"/>
            <a:ext cx="8676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98" name="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168200" y="25401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5873760" y="2671920"/>
            <a:ext cx="2913120" cy="374400"/>
            <a:chOff x="5873760" y="2671920"/>
            <a:chExt cx="2913120" cy="374400"/>
          </a:xfrm>
        </p:grpSpPr>
        <p:sp>
          <p:nvSpPr>
            <p:cNvPr id="702" name=""/>
            <p:cNvSpPr/>
            <p:nvPr/>
          </p:nvSpPr>
          <p:spPr>
            <a:xfrm>
              <a:off x="5873760" y="2822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032520" y="2674800"/>
              <a:ext cx="27543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_volume_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V="1">
              <a:off x="8659800" y="26719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05" name=""/>
          <p:cNvCxnSpPr>
            <a:stCxn id="689" idx="3"/>
            <a:endCxn id="702" idx="2"/>
          </p:cNvCxnSpPr>
          <p:nvPr/>
        </p:nvCxnSpPr>
        <p:spPr>
          <a:xfrm>
            <a:off x="5016240" y="2890800"/>
            <a:ext cx="84348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06" name=""/>
          <p:cNvSpPr/>
          <p:nvPr/>
        </p:nvSpPr>
        <p:spPr>
          <a:xfrm>
            <a:off x="5076000" y="25113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444920" y="26845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6178320" y="363240"/>
            <a:ext cx="2009520" cy="1859400"/>
            <a:chOff x="6178320" y="363240"/>
            <a:chExt cx="2009520" cy="1859400"/>
          </a:xfrm>
        </p:grpSpPr>
        <p:sp>
          <p:nvSpPr>
            <p:cNvPr id="709" name=""/>
            <p:cNvSpPr/>
            <p:nvPr/>
          </p:nvSpPr>
          <p:spPr>
            <a:xfrm flipH="1" flipV="1">
              <a:off x="6178320" y="1936800"/>
              <a:ext cx="1578600" cy="285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V="1">
              <a:off x="7757280" y="1367640"/>
              <a:ext cx="414000" cy="854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V="1">
              <a:off x="6178680" y="363240"/>
              <a:ext cx="1190520" cy="1573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369200" y="363600"/>
              <a:ext cx="388080" cy="1859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369200" y="363600"/>
              <a:ext cx="802080" cy="1004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V="1">
              <a:off x="6192360" y="1366200"/>
              <a:ext cx="1995480" cy="57024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171000"/>
            <a:ext cx="8534160" cy="65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256860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sign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nufactur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99" name="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102" name="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4" name=""/>
          <p:cNvCxnSpPr>
            <a:stCxn id="97" idx="2"/>
            <a:endCxn id="100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5" name=""/>
          <p:cNvCxnSpPr>
            <a:stCxn id="97" idx="2"/>
            <a:endCxn id="103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06" name="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" name=""/>
          <p:cNvCxnSpPr>
            <a:stCxn id="109" idx="0"/>
            <a:endCxn id="113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0" name=""/>
          <p:cNvCxnSpPr>
            <a:stCxn id="108" idx="0"/>
            <a:endCxn id="112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1" name="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17" idx="0"/>
            <a:endCxn id="121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"/>
          <p:cNvCxnSpPr>
            <a:stCxn id="114" idx="0"/>
            <a:endCxn id="123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5" name="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11" idx="0"/>
            <a:endCxn id="127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15" idx="0"/>
            <a:endCxn id="129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135" name="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2840 w 851040"/>
                <a:gd name="textAreaRight" fmla="*/ 744840 w 85104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480 w 85068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 flipV="1">
            <a:off x="152280" y="2443320"/>
            <a:ext cx="2408400" cy="3805200"/>
          </a:xfrm>
          <a:prstGeom prst="wedgeRoundRectCallout">
            <a:avLst>
              <a:gd name="adj1" fmla="val 14597"/>
              <a:gd name="adj2" fmla="val 87171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16" name=""/>
          <p:cNvGraphicFramePr/>
          <p:nvPr/>
        </p:nvGraphicFramePr>
        <p:xfrm>
          <a:off x="297000" y="534960"/>
          <a:ext cx="7538760" cy="564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000" y="534960"/>
                    <a:ext cx="7538760" cy="564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6583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Loading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720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" descr=""/>
          <p:cNvPicPr/>
          <p:nvPr/>
        </p:nvPicPr>
        <p:blipFill>
          <a:blip r:embed="rId1"/>
          <a:stretch/>
        </p:blipFill>
        <p:spPr>
          <a:xfrm>
            <a:off x="79200" y="79200"/>
            <a:ext cx="8913960" cy="6032520"/>
          </a:xfrm>
          <a:prstGeom prst="rect">
            <a:avLst/>
          </a:prstGeom>
          <a:ln w="0">
            <a:noFill/>
          </a:ln>
        </p:spPr>
      </p:pic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770000" y="3948120"/>
            <a:ext cx="4227480" cy="2224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pplied_loa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hysical_actio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ad_ca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ading_combin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hysical A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088000" y="1797120"/>
            <a:ext cx="3213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_action_accid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852560" y="19270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15000" y="1104840"/>
            <a:ext cx="1924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_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9" name=""/>
          <p:cNvCxnSpPr>
            <a:stCxn id="728" idx="2"/>
            <a:endCxn id="727" idx="2"/>
          </p:cNvCxnSpPr>
          <p:nvPr/>
        </p:nvCxnSpPr>
        <p:spPr>
          <a:xfrm flipH="1" rot="16200000">
            <a:off x="1311480" y="1509480"/>
            <a:ext cx="477000" cy="546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30" name=""/>
          <p:cNvSpPr/>
          <p:nvPr/>
        </p:nvSpPr>
        <p:spPr>
          <a:xfrm>
            <a:off x="777600" y="16128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1" name=""/>
          <p:cNvGrpSpPr/>
          <p:nvPr/>
        </p:nvGrpSpPr>
        <p:grpSpPr>
          <a:xfrm>
            <a:off x="1838160" y="2359080"/>
            <a:ext cx="3153600" cy="398880"/>
            <a:chOff x="1838160" y="2359080"/>
            <a:chExt cx="3153600" cy="398880"/>
          </a:xfrm>
        </p:grpSpPr>
        <p:sp>
          <p:nvSpPr>
            <p:cNvPr id="732" name=""/>
            <p:cNvSpPr/>
            <p:nvPr/>
          </p:nvSpPr>
          <p:spPr>
            <a:xfrm>
              <a:off x="2075400" y="2359080"/>
              <a:ext cx="2916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seism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838160" y="24908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34" name=""/>
          <p:cNvCxnSpPr>
            <a:stCxn id="728" idx="2"/>
            <a:endCxn id="733" idx="2"/>
          </p:cNvCxnSpPr>
          <p:nvPr/>
        </p:nvCxnSpPr>
        <p:spPr>
          <a:xfrm flipH="1" rot="16200000">
            <a:off x="1023120" y="1798560"/>
            <a:ext cx="104040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35" name=""/>
          <p:cNvGrpSpPr/>
          <p:nvPr/>
        </p:nvGrpSpPr>
        <p:grpSpPr>
          <a:xfrm>
            <a:off x="1838160" y="2906640"/>
            <a:ext cx="3519720" cy="398880"/>
            <a:chOff x="1838160" y="2906640"/>
            <a:chExt cx="3519720" cy="398880"/>
          </a:xfrm>
        </p:grpSpPr>
        <p:sp>
          <p:nvSpPr>
            <p:cNvPr id="736" name=""/>
            <p:cNvSpPr/>
            <p:nvPr/>
          </p:nvSpPr>
          <p:spPr>
            <a:xfrm>
              <a:off x="2074320" y="2906640"/>
              <a:ext cx="3283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perman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838160" y="3038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38" name=""/>
          <p:cNvCxnSpPr>
            <a:stCxn id="728" idx="2"/>
            <a:endCxn id="737" idx="2"/>
          </p:cNvCxnSpPr>
          <p:nvPr/>
        </p:nvCxnSpPr>
        <p:spPr>
          <a:xfrm flipH="1" rot="16200000">
            <a:off x="749160" y="2072160"/>
            <a:ext cx="158796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39" name=""/>
          <p:cNvSpPr/>
          <p:nvPr/>
        </p:nvSpPr>
        <p:spPr>
          <a:xfrm>
            <a:off x="1442880" y="249552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308320" y="396864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272120" y="396864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2" name=""/>
          <p:cNvCxnSpPr>
            <a:stCxn id="726" idx="3"/>
            <a:endCxn id="743" idx="2"/>
          </p:cNvCxnSpPr>
          <p:nvPr/>
        </p:nvCxnSpPr>
        <p:spPr>
          <a:xfrm flipV="1">
            <a:off x="5327280" y="1987200"/>
            <a:ext cx="2151720" cy="23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44" name=""/>
          <p:cNvSpPr/>
          <p:nvPr/>
        </p:nvSpPr>
        <p:spPr>
          <a:xfrm>
            <a:off x="5698800" y="163044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ction_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459320" y="236520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6" name=""/>
          <p:cNvGrpSpPr/>
          <p:nvPr/>
        </p:nvGrpSpPr>
        <p:grpSpPr>
          <a:xfrm>
            <a:off x="1824120" y="3427560"/>
            <a:ext cx="3196080" cy="398880"/>
            <a:chOff x="1824120" y="3427560"/>
            <a:chExt cx="3196080" cy="398880"/>
          </a:xfrm>
        </p:grpSpPr>
        <p:sp>
          <p:nvSpPr>
            <p:cNvPr id="747" name=""/>
            <p:cNvSpPr/>
            <p:nvPr/>
          </p:nvSpPr>
          <p:spPr>
            <a:xfrm>
              <a:off x="2061360" y="3427560"/>
              <a:ext cx="29588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824120" y="35589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2744640" y="4133880"/>
            <a:ext cx="4468320" cy="398880"/>
            <a:chOff x="2744640" y="4133880"/>
            <a:chExt cx="4468320" cy="398880"/>
          </a:xfrm>
        </p:grpSpPr>
        <p:sp>
          <p:nvSpPr>
            <p:cNvPr id="750" name=""/>
            <p:cNvSpPr/>
            <p:nvPr/>
          </p:nvSpPr>
          <p:spPr>
            <a:xfrm>
              <a:off x="2980080" y="4133880"/>
              <a:ext cx="4232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_long_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44640" y="4265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52" name=""/>
          <p:cNvCxnSpPr>
            <a:stCxn id="753" idx="2"/>
            <a:endCxn id="751" idx="2"/>
          </p:cNvCxnSpPr>
          <p:nvPr/>
        </p:nvCxnSpPr>
        <p:spPr>
          <a:xfrm flipH="1" rot="16200000">
            <a:off x="2300760" y="3944520"/>
            <a:ext cx="50868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54" name=""/>
          <p:cNvGrpSpPr/>
          <p:nvPr/>
        </p:nvGrpSpPr>
        <p:grpSpPr>
          <a:xfrm>
            <a:off x="2744640" y="4668840"/>
            <a:ext cx="4552200" cy="398880"/>
            <a:chOff x="2744640" y="4668840"/>
            <a:chExt cx="4552200" cy="398880"/>
          </a:xfrm>
        </p:grpSpPr>
        <p:sp>
          <p:nvSpPr>
            <p:cNvPr id="755" name=""/>
            <p:cNvSpPr/>
            <p:nvPr/>
          </p:nvSpPr>
          <p:spPr>
            <a:xfrm>
              <a:off x="2978280" y="4668840"/>
              <a:ext cx="4318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_short_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744640" y="4800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57" name=""/>
          <p:cNvCxnSpPr>
            <a:stCxn id="753" idx="2"/>
            <a:endCxn id="756" idx="2"/>
          </p:cNvCxnSpPr>
          <p:nvPr/>
        </p:nvCxnSpPr>
        <p:spPr>
          <a:xfrm flipH="1" rot="16200000">
            <a:off x="2033280" y="4212000"/>
            <a:ext cx="104364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58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047680" y="39387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365800" y="414036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2744640" y="5187960"/>
            <a:ext cx="4312800" cy="398880"/>
            <a:chOff x="2744640" y="5187960"/>
            <a:chExt cx="4312800" cy="398880"/>
          </a:xfrm>
        </p:grpSpPr>
        <p:sp>
          <p:nvSpPr>
            <p:cNvPr id="762" name=""/>
            <p:cNvSpPr/>
            <p:nvPr/>
          </p:nvSpPr>
          <p:spPr>
            <a:xfrm>
              <a:off x="2979720" y="5187960"/>
              <a:ext cx="4077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_trans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744640" y="53197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3" name=""/>
          <p:cNvSpPr/>
          <p:nvPr/>
        </p:nvSpPr>
        <p:spPr>
          <a:xfrm>
            <a:off x="7493040" y="19112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674120" y="1779480"/>
            <a:ext cx="655560" cy="395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8220240" y="177588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6" name=""/>
          <p:cNvCxnSpPr>
            <a:stCxn id="728" idx="2"/>
            <a:endCxn id="748" idx="2"/>
          </p:cNvCxnSpPr>
          <p:nvPr/>
        </p:nvCxnSpPr>
        <p:spPr>
          <a:xfrm flipH="1" rot="16200000">
            <a:off x="481680" y="2340000"/>
            <a:ext cx="2108880" cy="518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67" name=""/>
          <p:cNvCxnSpPr>
            <a:stCxn id="736" idx="3"/>
            <a:endCxn id="768" idx="2"/>
          </p:cNvCxnSpPr>
          <p:nvPr/>
        </p:nvCxnSpPr>
        <p:spPr>
          <a:xfrm flipV="1">
            <a:off x="5383080" y="3098520"/>
            <a:ext cx="2153520" cy="20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69" name=""/>
          <p:cNvSpPr/>
          <p:nvPr/>
        </p:nvSpPr>
        <p:spPr>
          <a:xfrm>
            <a:off x="5756040" y="274176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ction_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550280" y="3022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731000" y="2890800"/>
            <a:ext cx="655920" cy="395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8277120" y="290160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208240" y="3635280"/>
            <a:ext cx="37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2" name=""/>
          <p:cNvCxnSpPr>
            <a:stCxn id="753" idx="2"/>
            <a:endCxn id="763" idx="2"/>
          </p:cNvCxnSpPr>
          <p:nvPr/>
        </p:nvCxnSpPr>
        <p:spPr>
          <a:xfrm flipH="1" rot="16200000">
            <a:off x="1773720" y="4471560"/>
            <a:ext cx="156276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pplied Load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089800" y="1765440"/>
            <a:ext cx="2716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d_load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852560" y="189540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67640" y="1073160"/>
            <a:ext cx="1625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d_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7" name=""/>
          <p:cNvCxnSpPr>
            <a:stCxn id="776" idx="2"/>
            <a:endCxn id="775" idx="2"/>
          </p:cNvCxnSpPr>
          <p:nvPr/>
        </p:nvCxnSpPr>
        <p:spPr>
          <a:xfrm flipH="1" rot="16200000">
            <a:off x="1314360" y="1478880"/>
            <a:ext cx="477000" cy="543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78" name=""/>
          <p:cNvSpPr/>
          <p:nvPr/>
        </p:nvSpPr>
        <p:spPr>
          <a:xfrm>
            <a:off x="777600" y="15811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4262400" y="2860560"/>
            <a:ext cx="3945600" cy="398880"/>
            <a:chOff x="4262400" y="2860560"/>
            <a:chExt cx="3945600" cy="398880"/>
          </a:xfrm>
        </p:grpSpPr>
        <p:sp>
          <p:nvSpPr>
            <p:cNvPr id="780" name=""/>
            <p:cNvSpPr/>
            <p:nvPr/>
          </p:nvSpPr>
          <p:spPr>
            <a:xfrm>
              <a:off x="4499280" y="2860560"/>
              <a:ext cx="3708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dynamic_velo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262400" y="29923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82" name=""/>
          <p:cNvCxnSpPr>
            <a:stCxn id="774" idx="2"/>
            <a:endCxn id="781" idx="2"/>
          </p:cNvCxnSpPr>
          <p:nvPr/>
        </p:nvCxnSpPr>
        <p:spPr>
          <a:xfrm flipH="1" rot="16200000">
            <a:off x="3399480" y="2252520"/>
            <a:ext cx="882000" cy="786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83" name=""/>
          <p:cNvGrpSpPr/>
          <p:nvPr/>
        </p:nvGrpSpPr>
        <p:grpSpPr>
          <a:xfrm>
            <a:off x="4262400" y="3408480"/>
            <a:ext cx="4469040" cy="398880"/>
            <a:chOff x="4262400" y="3408480"/>
            <a:chExt cx="4469040" cy="398880"/>
          </a:xfrm>
        </p:grpSpPr>
        <p:sp>
          <p:nvSpPr>
            <p:cNvPr id="784" name=""/>
            <p:cNvSpPr/>
            <p:nvPr/>
          </p:nvSpPr>
          <p:spPr>
            <a:xfrm>
              <a:off x="4498560" y="3408480"/>
              <a:ext cx="4232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dynamic_accele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262400" y="353988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86" name=""/>
          <p:cNvCxnSpPr>
            <a:stCxn id="774" idx="2"/>
            <a:endCxn id="785" idx="2"/>
          </p:cNvCxnSpPr>
          <p:nvPr/>
        </p:nvCxnSpPr>
        <p:spPr>
          <a:xfrm flipH="1" rot="16200000">
            <a:off x="3125520" y="2526120"/>
            <a:ext cx="1429560" cy="786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87" name=""/>
          <p:cNvSpPr/>
          <p:nvPr/>
        </p:nvSpPr>
        <p:spPr>
          <a:xfrm>
            <a:off x="3867120" y="29973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278080" y="455760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241880" y="455760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883560" y="286704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1" name=""/>
          <p:cNvGrpSpPr/>
          <p:nvPr/>
        </p:nvGrpSpPr>
        <p:grpSpPr>
          <a:xfrm>
            <a:off x="1793880" y="4016520"/>
            <a:ext cx="2600640" cy="398880"/>
            <a:chOff x="1793880" y="4016520"/>
            <a:chExt cx="2600640" cy="398880"/>
          </a:xfrm>
        </p:grpSpPr>
        <p:sp>
          <p:nvSpPr>
            <p:cNvPr id="792" name=""/>
            <p:cNvSpPr/>
            <p:nvPr/>
          </p:nvSpPr>
          <p:spPr>
            <a:xfrm>
              <a:off x="2032920" y="4016520"/>
              <a:ext cx="2361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793880" y="414792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2714760" y="4722840"/>
            <a:ext cx="4241160" cy="398880"/>
            <a:chOff x="2714760" y="4722840"/>
            <a:chExt cx="4241160" cy="398880"/>
          </a:xfrm>
        </p:grpSpPr>
        <p:sp>
          <p:nvSpPr>
            <p:cNvPr id="795" name=""/>
            <p:cNvSpPr/>
            <p:nvPr/>
          </p:nvSpPr>
          <p:spPr>
            <a:xfrm>
              <a:off x="2951640" y="4722840"/>
              <a:ext cx="4004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_displac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714760" y="4854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97" name=""/>
          <p:cNvCxnSpPr>
            <a:stCxn id="798" idx="2"/>
            <a:endCxn id="796" idx="2"/>
          </p:cNvCxnSpPr>
          <p:nvPr/>
        </p:nvCxnSpPr>
        <p:spPr>
          <a:xfrm flipH="1" rot="16200000">
            <a:off x="2270520" y="4533480"/>
            <a:ext cx="50868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99" name=""/>
          <p:cNvGrpSpPr/>
          <p:nvPr/>
        </p:nvGrpSpPr>
        <p:grpSpPr>
          <a:xfrm>
            <a:off x="2714760" y="5257800"/>
            <a:ext cx="3306960" cy="398880"/>
            <a:chOff x="2714760" y="5257800"/>
            <a:chExt cx="3306960" cy="398880"/>
          </a:xfrm>
        </p:grpSpPr>
        <p:sp>
          <p:nvSpPr>
            <p:cNvPr id="800" name=""/>
            <p:cNvSpPr/>
            <p:nvPr/>
          </p:nvSpPr>
          <p:spPr>
            <a:xfrm>
              <a:off x="2951640" y="5257800"/>
              <a:ext cx="3070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_for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714760" y="538956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2" name=""/>
          <p:cNvCxnSpPr>
            <a:stCxn id="798" idx="2"/>
            <a:endCxn id="801" idx="2"/>
          </p:cNvCxnSpPr>
          <p:nvPr/>
        </p:nvCxnSpPr>
        <p:spPr>
          <a:xfrm flipH="1" rot="16200000">
            <a:off x="2003040" y="4800960"/>
            <a:ext cx="104364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03" name=""/>
          <p:cNvSpPr/>
          <p:nvPr/>
        </p:nvSpPr>
        <p:spPr>
          <a:xfrm>
            <a:off x="1384200" y="419580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017440" y="4527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335560" y="47293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6" name=""/>
          <p:cNvGrpSpPr/>
          <p:nvPr/>
        </p:nvGrpSpPr>
        <p:grpSpPr>
          <a:xfrm>
            <a:off x="2714760" y="5776920"/>
            <a:ext cx="3732840" cy="398880"/>
            <a:chOff x="2714760" y="5776920"/>
            <a:chExt cx="3732840" cy="398880"/>
          </a:xfrm>
        </p:grpSpPr>
        <p:sp>
          <p:nvSpPr>
            <p:cNvPr id="807" name=""/>
            <p:cNvSpPr/>
            <p:nvPr/>
          </p:nvSpPr>
          <p:spPr>
            <a:xfrm>
              <a:off x="2950560" y="5776920"/>
              <a:ext cx="3497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_press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714760" y="5908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9" name=""/>
          <p:cNvCxnSpPr>
            <a:stCxn id="776" idx="2"/>
            <a:endCxn id="793" idx="2"/>
          </p:cNvCxnSpPr>
          <p:nvPr/>
        </p:nvCxnSpPr>
        <p:spPr>
          <a:xfrm flipH="1" rot="16200000">
            <a:off x="157680" y="2634840"/>
            <a:ext cx="272988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98" name=""/>
          <p:cNvSpPr/>
          <p:nvPr/>
        </p:nvSpPr>
        <p:spPr>
          <a:xfrm>
            <a:off x="2178000" y="4224240"/>
            <a:ext cx="37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0" name=""/>
          <p:cNvCxnSpPr>
            <a:stCxn id="798" idx="2"/>
            <a:endCxn id="808" idx="2"/>
          </p:cNvCxnSpPr>
          <p:nvPr/>
        </p:nvCxnSpPr>
        <p:spPr>
          <a:xfrm flipH="1" rot="16200000">
            <a:off x="1743480" y="5060520"/>
            <a:ext cx="156276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11" name=""/>
          <p:cNvGrpSpPr/>
          <p:nvPr/>
        </p:nvGrpSpPr>
        <p:grpSpPr>
          <a:xfrm>
            <a:off x="3017880" y="2190600"/>
            <a:ext cx="152280" cy="1788840"/>
            <a:chOff x="3017880" y="2190600"/>
            <a:chExt cx="152280" cy="1788840"/>
          </a:xfrm>
        </p:grpSpPr>
        <p:sp>
          <p:nvSpPr>
            <p:cNvPr id="812" name=""/>
            <p:cNvSpPr/>
            <p:nvPr/>
          </p:nvSpPr>
          <p:spPr>
            <a:xfrm>
              <a:off x="3017880" y="3827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V="1">
              <a:off x="3087720" y="219060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4" name=""/>
          <p:cNvGrpSpPr/>
          <p:nvPr/>
        </p:nvGrpSpPr>
        <p:grpSpPr>
          <a:xfrm>
            <a:off x="2705040" y="2190600"/>
            <a:ext cx="152280" cy="1788840"/>
            <a:chOff x="2705040" y="2190600"/>
            <a:chExt cx="152280" cy="1788840"/>
          </a:xfrm>
        </p:grpSpPr>
        <p:sp>
          <p:nvSpPr>
            <p:cNvPr id="815" name=""/>
            <p:cNvSpPr/>
            <p:nvPr/>
          </p:nvSpPr>
          <p:spPr>
            <a:xfrm>
              <a:off x="2705040" y="3827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V="1">
              <a:off x="2774880" y="219060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"/>
          <p:cNvGrpSpPr/>
          <p:nvPr/>
        </p:nvGrpSpPr>
        <p:grpSpPr>
          <a:xfrm>
            <a:off x="2392200" y="2190600"/>
            <a:ext cx="152280" cy="1788840"/>
            <a:chOff x="2392200" y="2190600"/>
            <a:chExt cx="152280" cy="1788840"/>
          </a:xfrm>
        </p:grpSpPr>
        <p:sp>
          <p:nvSpPr>
            <p:cNvPr id="818" name=""/>
            <p:cNvSpPr/>
            <p:nvPr/>
          </p:nvSpPr>
          <p:spPr>
            <a:xfrm>
              <a:off x="2392200" y="3827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V="1">
              <a:off x="2462040" y="219060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2079720" y="2190600"/>
            <a:ext cx="152280" cy="1788840"/>
            <a:chOff x="2079720" y="2190600"/>
            <a:chExt cx="152280" cy="1788840"/>
          </a:xfrm>
        </p:grpSpPr>
        <p:sp>
          <p:nvSpPr>
            <p:cNvPr id="821" name=""/>
            <p:cNvSpPr/>
            <p:nvPr/>
          </p:nvSpPr>
          <p:spPr>
            <a:xfrm>
              <a:off x="2079720" y="3827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2149560" y="219060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ads (on element &amp; node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2090880" y="1739880"/>
            <a:ext cx="1370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850680" y="919080"/>
            <a:ext cx="858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6" name=""/>
          <p:cNvCxnSpPr>
            <a:stCxn id="824" idx="2"/>
            <a:endCxn id="827" idx="2"/>
          </p:cNvCxnSpPr>
          <p:nvPr/>
        </p:nvCxnSpPr>
        <p:spPr>
          <a:xfrm flipH="1" rot="16200000">
            <a:off x="4257000" y="698760"/>
            <a:ext cx="356040" cy="33170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28" name=""/>
          <p:cNvSpPr/>
          <p:nvPr/>
        </p:nvSpPr>
        <p:spPr>
          <a:xfrm>
            <a:off x="3867120" y="311472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278080" y="458964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684680" y="464652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1" name=""/>
          <p:cNvCxnSpPr>
            <a:stCxn id="832" idx="2"/>
            <a:endCxn id="833" idx="2"/>
          </p:cNvCxnSpPr>
          <p:nvPr/>
        </p:nvCxnSpPr>
        <p:spPr>
          <a:xfrm flipH="1" rot="16200000">
            <a:off x="2769120" y="3495240"/>
            <a:ext cx="553320" cy="315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34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522160" y="35067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778360" y="4818240"/>
            <a:ext cx="289080" cy="1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7" name=""/>
          <p:cNvCxnSpPr>
            <a:stCxn id="825" idx="2"/>
            <a:endCxn id="838" idx="2"/>
          </p:cNvCxnSpPr>
          <p:nvPr/>
        </p:nvCxnSpPr>
        <p:spPr>
          <a:xfrm flipH="1" rot="16200000">
            <a:off x="772920" y="2170440"/>
            <a:ext cx="149940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39" name=""/>
          <p:cNvSpPr/>
          <p:nvPr/>
        </p:nvSpPr>
        <p:spPr>
          <a:xfrm>
            <a:off x="2178000" y="3144960"/>
            <a:ext cx="37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852560" y="1855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1793880" y="2936880"/>
            <a:ext cx="1949040" cy="398880"/>
            <a:chOff x="1793880" y="2936880"/>
            <a:chExt cx="1949040" cy="398880"/>
          </a:xfrm>
        </p:grpSpPr>
        <p:sp>
          <p:nvSpPr>
            <p:cNvPr id="832" name=""/>
            <p:cNvSpPr/>
            <p:nvPr/>
          </p:nvSpPr>
          <p:spPr>
            <a:xfrm>
              <a:off x="2033640" y="2936880"/>
              <a:ext cx="1709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793880" y="3068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42" name=""/>
          <p:cNvCxnSpPr>
            <a:stCxn id="825" idx="2"/>
            <a:endCxn id="840" idx="2"/>
          </p:cNvCxnSpPr>
          <p:nvPr/>
        </p:nvCxnSpPr>
        <p:spPr>
          <a:xfrm flipH="1" rot="16200000">
            <a:off x="1409760" y="1534680"/>
            <a:ext cx="286560" cy="543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3" name=""/>
          <p:cNvSpPr/>
          <p:nvPr/>
        </p:nvSpPr>
        <p:spPr>
          <a:xfrm>
            <a:off x="5893560" y="1708200"/>
            <a:ext cx="1625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d_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4" name=""/>
          <p:cNvCxnSpPr>
            <a:stCxn id="824" idx="3"/>
            <a:endCxn id="845" idx="2"/>
          </p:cNvCxnSpPr>
          <p:nvPr/>
        </p:nvCxnSpPr>
        <p:spPr>
          <a:xfrm flipV="1">
            <a:off x="3490920" y="1942920"/>
            <a:ext cx="218520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46" name=""/>
          <p:cNvSpPr/>
          <p:nvPr/>
        </p:nvSpPr>
        <p:spPr>
          <a:xfrm>
            <a:off x="3895920" y="1585800"/>
            <a:ext cx="139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ad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689440" y="18669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287400" y="230364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107040" y="24591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655440" y="2147760"/>
            <a:ext cx="187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pporting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218640" y="293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0" name=""/>
          <p:cNvCxnSpPr>
            <a:stCxn id="832" idx="3"/>
            <a:endCxn id="851" idx="2"/>
          </p:cNvCxnSpPr>
          <p:nvPr/>
        </p:nvCxnSpPr>
        <p:spPr>
          <a:xfrm>
            <a:off x="3772080" y="3149280"/>
            <a:ext cx="224208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52" name=""/>
          <p:cNvSpPr/>
          <p:nvPr/>
        </p:nvSpPr>
        <p:spPr>
          <a:xfrm>
            <a:off x="3820320" y="2795760"/>
            <a:ext cx="218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pporting_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6027840" y="3076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3232080" y="3703680"/>
            <a:ext cx="3560760" cy="398880"/>
            <a:chOff x="3232080" y="3703680"/>
            <a:chExt cx="3560760" cy="398880"/>
          </a:xfrm>
        </p:grpSpPr>
        <p:sp>
          <p:nvSpPr>
            <p:cNvPr id="854" name=""/>
            <p:cNvSpPr/>
            <p:nvPr/>
          </p:nvSpPr>
          <p:spPr>
            <a:xfrm>
              <a:off x="3468240" y="3703680"/>
              <a:ext cx="3324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concentr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232080" y="3835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"/>
          <p:cNvGrpSpPr/>
          <p:nvPr/>
        </p:nvGrpSpPr>
        <p:grpSpPr>
          <a:xfrm>
            <a:off x="3241800" y="4272120"/>
            <a:ext cx="3263760" cy="398880"/>
            <a:chOff x="3241800" y="4272120"/>
            <a:chExt cx="3263760" cy="398880"/>
          </a:xfrm>
        </p:grpSpPr>
        <p:sp>
          <p:nvSpPr>
            <p:cNvPr id="856" name=""/>
            <p:cNvSpPr/>
            <p:nvPr/>
          </p:nvSpPr>
          <p:spPr>
            <a:xfrm>
              <a:off x="3479400" y="4272120"/>
              <a:ext cx="30261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distribu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241800" y="440352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58" name=""/>
          <p:cNvCxnSpPr>
            <a:stCxn id="832" idx="2"/>
            <a:endCxn id="857" idx="2"/>
          </p:cNvCxnSpPr>
          <p:nvPr/>
        </p:nvCxnSpPr>
        <p:spPr>
          <a:xfrm flipH="1" rot="16200000">
            <a:off x="2489760" y="3774960"/>
            <a:ext cx="1121760" cy="324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59" name=""/>
          <p:cNvSpPr/>
          <p:nvPr/>
        </p:nvSpPr>
        <p:spPr>
          <a:xfrm>
            <a:off x="84888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749760" y="455148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012000" y="604044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2" name=""/>
          <p:cNvCxnSpPr>
            <a:stCxn id="860" idx="2"/>
            <a:endCxn id="863" idx="2"/>
          </p:cNvCxnSpPr>
          <p:nvPr/>
        </p:nvCxnSpPr>
        <p:spPr>
          <a:xfrm flipH="1" rot="16200000">
            <a:off x="3945600" y="4637880"/>
            <a:ext cx="527760" cy="643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64" name=""/>
          <p:cNvSpPr/>
          <p:nvPr/>
        </p:nvSpPr>
        <p:spPr>
          <a:xfrm>
            <a:off x="3520800" y="49006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105680" y="621180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4559400" y="4997520"/>
            <a:ext cx="4028040" cy="398880"/>
            <a:chOff x="4559400" y="4997520"/>
            <a:chExt cx="4028040" cy="398880"/>
          </a:xfrm>
        </p:grpSpPr>
        <p:sp>
          <p:nvSpPr>
            <p:cNvPr id="867" name=""/>
            <p:cNvSpPr/>
            <p:nvPr/>
          </p:nvSpPr>
          <p:spPr>
            <a:xfrm>
              <a:off x="4794840" y="4997520"/>
              <a:ext cx="3792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distributed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559400" y="5129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4568760" y="5565600"/>
            <a:ext cx="4239720" cy="398880"/>
            <a:chOff x="4568760" y="5565600"/>
            <a:chExt cx="4239720" cy="398880"/>
          </a:xfrm>
        </p:grpSpPr>
        <p:sp>
          <p:nvSpPr>
            <p:cNvPr id="869" name=""/>
            <p:cNvSpPr/>
            <p:nvPr/>
          </p:nvSpPr>
          <p:spPr>
            <a:xfrm>
              <a:off x="4804200" y="5565600"/>
              <a:ext cx="4004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distributed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568760" y="5697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71" name=""/>
          <p:cNvCxnSpPr>
            <a:stCxn id="860" idx="2"/>
            <a:endCxn id="870" idx="2"/>
          </p:cNvCxnSpPr>
          <p:nvPr/>
        </p:nvCxnSpPr>
        <p:spPr>
          <a:xfrm flipH="1" rot="16200000">
            <a:off x="3665160" y="4916880"/>
            <a:ext cx="1096200" cy="653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ading Combina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2090880" y="1739880"/>
            <a:ext cx="1370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850680" y="919080"/>
            <a:ext cx="858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5" name=""/>
          <p:cNvCxnSpPr>
            <a:stCxn id="874" idx="2"/>
            <a:endCxn id="876" idx="2"/>
          </p:cNvCxnSpPr>
          <p:nvPr/>
        </p:nvCxnSpPr>
        <p:spPr>
          <a:xfrm flipH="1" rot="16200000">
            <a:off x="772920" y="2170440"/>
            <a:ext cx="149940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77" name=""/>
          <p:cNvSpPr/>
          <p:nvPr/>
        </p:nvSpPr>
        <p:spPr>
          <a:xfrm>
            <a:off x="2178000" y="3144960"/>
            <a:ext cx="37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852560" y="1855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1793880" y="2936880"/>
            <a:ext cx="1949040" cy="398880"/>
            <a:chOff x="1793880" y="2936880"/>
            <a:chExt cx="1949040" cy="398880"/>
          </a:xfrm>
        </p:grpSpPr>
        <p:sp>
          <p:nvSpPr>
            <p:cNvPr id="880" name=""/>
            <p:cNvSpPr/>
            <p:nvPr/>
          </p:nvSpPr>
          <p:spPr>
            <a:xfrm>
              <a:off x="2033640" y="2936880"/>
              <a:ext cx="1709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793880" y="3068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81" name=""/>
          <p:cNvCxnSpPr>
            <a:stCxn id="874" idx="2"/>
            <a:endCxn id="878" idx="2"/>
          </p:cNvCxnSpPr>
          <p:nvPr/>
        </p:nvCxnSpPr>
        <p:spPr>
          <a:xfrm flipH="1" rot="16200000">
            <a:off x="1409760" y="1534680"/>
            <a:ext cx="286560" cy="543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82" name=""/>
          <p:cNvSpPr/>
          <p:nvPr/>
        </p:nvSpPr>
        <p:spPr>
          <a:xfrm>
            <a:off x="84888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195520" y="1074600"/>
            <a:ext cx="13435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4" name=""/>
          <p:cNvCxnSpPr>
            <a:stCxn id="874" idx="3"/>
            <a:endCxn id="885" idx="2"/>
          </p:cNvCxnSpPr>
          <p:nvPr/>
        </p:nvCxnSpPr>
        <p:spPr>
          <a:xfrm flipV="1">
            <a:off x="1739880" y="1278720"/>
            <a:ext cx="324576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86" name=""/>
          <p:cNvSpPr/>
          <p:nvPr/>
        </p:nvSpPr>
        <p:spPr>
          <a:xfrm>
            <a:off x="2370960" y="835200"/>
            <a:ext cx="199188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load_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load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998960" y="1203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059360" y="4287960"/>
            <a:ext cx="3582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combination_occur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693480" y="2444760"/>
            <a:ext cx="1924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_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7570800" y="2257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753240" y="90792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var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604760" y="5659560"/>
            <a:ext cx="2517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ing_comb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2" name=""/>
          <p:cNvCxnSpPr>
            <a:stCxn id="883" idx="3"/>
            <a:endCxn id="889" idx="0"/>
          </p:cNvCxnSpPr>
          <p:nvPr/>
        </p:nvCxnSpPr>
        <p:spPr>
          <a:xfrm>
            <a:off x="6567120" y="1287000"/>
            <a:ext cx="1080360" cy="956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93" name=""/>
          <p:cNvSpPr/>
          <p:nvPr/>
        </p:nvSpPr>
        <p:spPr>
          <a:xfrm>
            <a:off x="5778360" y="15210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776920" y="54687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5" name=""/>
          <p:cNvCxnSpPr>
            <a:stCxn id="887" idx="0"/>
            <a:endCxn id="893" idx="4"/>
          </p:cNvCxnSpPr>
          <p:nvPr/>
        </p:nvCxnSpPr>
        <p:spPr>
          <a:xfrm flipH="1" flipV="1" rot="5400000">
            <a:off x="4559760" y="2978280"/>
            <a:ext cx="2586600" cy="3960"/>
          </a:xfrm>
          <a:prstGeom prst="bentConnector3">
            <a:avLst>
              <a:gd name="adj1" fmla="val 49958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96" name=""/>
          <p:cNvCxnSpPr>
            <a:stCxn id="894" idx="0"/>
            <a:endCxn id="887" idx="2"/>
          </p:cNvCxnSpPr>
          <p:nvPr/>
        </p:nvCxnSpPr>
        <p:spPr>
          <a:xfrm flipV="1" rot="16200000">
            <a:off x="5488200" y="5090040"/>
            <a:ext cx="727560" cy="25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97" name=""/>
          <p:cNvSpPr/>
          <p:nvPr/>
        </p:nvSpPr>
        <p:spPr>
          <a:xfrm>
            <a:off x="6753240" y="90792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var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589280" y="3578400"/>
            <a:ext cx="2473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load_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4546440" y="4987800"/>
            <a:ext cx="304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loading_comb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72600" y="56386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2343240" y="58006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2" name=""/>
          <p:cNvCxnSpPr>
            <a:stCxn id="901" idx="6"/>
            <a:endCxn id="891" idx="1"/>
          </p:cNvCxnSpPr>
          <p:nvPr/>
        </p:nvCxnSpPr>
        <p:spPr>
          <a:xfrm flipV="1">
            <a:off x="2509560" y="5871600"/>
            <a:ext cx="2067120" cy="5400"/>
          </a:xfrm>
          <a:prstGeom prst="bentConnector3">
            <a:avLst>
              <a:gd name="adj1" fmla="val 49991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903" name=""/>
          <p:cNvSpPr/>
          <p:nvPr/>
        </p:nvSpPr>
        <p:spPr>
          <a:xfrm>
            <a:off x="2771280" y="5483160"/>
            <a:ext cx="161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aded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6583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Structural Response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05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906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09" name="" descr=""/>
          <p:cNvPicPr/>
          <p:nvPr/>
        </p:nvPicPr>
        <p:blipFill>
          <a:blip r:embed="rId1"/>
          <a:stretch/>
        </p:blipFill>
        <p:spPr>
          <a:xfrm>
            <a:off x="87480" y="79200"/>
            <a:ext cx="8993160" cy="6050160"/>
          </a:xfrm>
          <a:prstGeom prst="rect">
            <a:avLst/>
          </a:prstGeom>
          <a:ln w="0">
            <a:noFill/>
          </a:ln>
        </p:spPr>
      </p:pic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803920" y="5081400"/>
            <a:ext cx="3193920" cy="10904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nalysis_result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react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a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2088720" y="1797120"/>
            <a:ext cx="2178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1852560" y="19270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41240" y="990720"/>
            <a:ext cx="10875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5" name=""/>
          <p:cNvCxnSpPr>
            <a:stCxn id="914" idx="2"/>
            <a:endCxn id="913" idx="2"/>
          </p:cNvCxnSpPr>
          <p:nvPr/>
        </p:nvCxnSpPr>
        <p:spPr>
          <a:xfrm flipH="1" rot="16200000">
            <a:off x="1411200" y="1608840"/>
            <a:ext cx="286560" cy="538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16" name=""/>
          <p:cNvSpPr/>
          <p:nvPr/>
        </p:nvSpPr>
        <p:spPr>
          <a:xfrm>
            <a:off x="720360" y="1741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7" name=""/>
          <p:cNvGrpSpPr/>
          <p:nvPr/>
        </p:nvGrpSpPr>
        <p:grpSpPr>
          <a:xfrm>
            <a:off x="1852560" y="2401920"/>
            <a:ext cx="2317680" cy="398880"/>
            <a:chOff x="1852560" y="2401920"/>
            <a:chExt cx="2317680" cy="398880"/>
          </a:xfrm>
        </p:grpSpPr>
        <p:sp>
          <p:nvSpPr>
            <p:cNvPr id="918" name=""/>
            <p:cNvSpPr/>
            <p:nvPr/>
          </p:nvSpPr>
          <p:spPr>
            <a:xfrm>
              <a:off x="2090520" y="2401920"/>
              <a:ext cx="2079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velo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852560" y="2533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0" name=""/>
          <p:cNvCxnSpPr>
            <a:stCxn id="914" idx="2"/>
            <a:endCxn id="919" idx="2"/>
          </p:cNvCxnSpPr>
          <p:nvPr/>
        </p:nvCxnSpPr>
        <p:spPr>
          <a:xfrm flipH="1" rot="16200000">
            <a:off x="1108080" y="1911960"/>
            <a:ext cx="892800" cy="538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21" name=""/>
          <p:cNvGrpSpPr/>
          <p:nvPr/>
        </p:nvGrpSpPr>
        <p:grpSpPr>
          <a:xfrm>
            <a:off x="1852560" y="2949480"/>
            <a:ext cx="2840760" cy="398880"/>
            <a:chOff x="1852560" y="2949480"/>
            <a:chExt cx="2840760" cy="398880"/>
          </a:xfrm>
        </p:grpSpPr>
        <p:sp>
          <p:nvSpPr>
            <p:cNvPr id="922" name=""/>
            <p:cNvSpPr/>
            <p:nvPr/>
          </p:nvSpPr>
          <p:spPr>
            <a:xfrm>
              <a:off x="2089440" y="2949480"/>
              <a:ext cx="260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accele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852560" y="30812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4" name=""/>
          <p:cNvCxnSpPr>
            <a:stCxn id="914" idx="2"/>
            <a:endCxn id="923" idx="2"/>
          </p:cNvCxnSpPr>
          <p:nvPr/>
        </p:nvCxnSpPr>
        <p:spPr>
          <a:xfrm flipH="1" rot="16200000">
            <a:off x="834120" y="2185560"/>
            <a:ext cx="1440360" cy="538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25" name=""/>
          <p:cNvSpPr/>
          <p:nvPr/>
        </p:nvSpPr>
        <p:spPr>
          <a:xfrm>
            <a:off x="1457280" y="25383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376440" y="34066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473720" y="240840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8" name=""/>
          <p:cNvGrpSpPr/>
          <p:nvPr/>
        </p:nvGrpSpPr>
        <p:grpSpPr>
          <a:xfrm>
            <a:off x="1849320" y="3571920"/>
            <a:ext cx="2967480" cy="398880"/>
            <a:chOff x="1849320" y="3571920"/>
            <a:chExt cx="2967480" cy="398880"/>
          </a:xfrm>
        </p:grpSpPr>
        <p:sp>
          <p:nvSpPr>
            <p:cNvPr id="929" name=""/>
            <p:cNvSpPr/>
            <p:nvPr/>
          </p:nvSpPr>
          <p:spPr>
            <a:xfrm>
              <a:off x="2086560" y="3571920"/>
              <a:ext cx="2730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displac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849320" y="3703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1" name=""/>
          <p:cNvCxnSpPr>
            <a:stCxn id="914" idx="2"/>
            <a:endCxn id="930" idx="2"/>
          </p:cNvCxnSpPr>
          <p:nvPr/>
        </p:nvCxnSpPr>
        <p:spPr>
          <a:xfrm flipH="1" rot="16200000">
            <a:off x="522360" y="2498400"/>
            <a:ext cx="206244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32" name=""/>
          <p:cNvGrpSpPr/>
          <p:nvPr/>
        </p:nvGrpSpPr>
        <p:grpSpPr>
          <a:xfrm>
            <a:off x="1849320" y="4106880"/>
            <a:ext cx="2033640" cy="398880"/>
            <a:chOff x="1849320" y="4106880"/>
            <a:chExt cx="2033640" cy="398880"/>
          </a:xfrm>
        </p:grpSpPr>
        <p:sp>
          <p:nvSpPr>
            <p:cNvPr id="933" name=""/>
            <p:cNvSpPr/>
            <p:nvPr/>
          </p:nvSpPr>
          <p:spPr>
            <a:xfrm>
              <a:off x="2086920" y="4106880"/>
              <a:ext cx="1796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for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849320" y="4238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5" name=""/>
          <p:cNvCxnSpPr>
            <a:stCxn id="914" idx="2"/>
            <a:endCxn id="934" idx="2"/>
          </p:cNvCxnSpPr>
          <p:nvPr/>
        </p:nvCxnSpPr>
        <p:spPr>
          <a:xfrm flipH="1" rot="16200000">
            <a:off x="254880" y="2765880"/>
            <a:ext cx="259776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36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4470480" y="3578400"/>
            <a:ext cx="288720" cy="1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8" name=""/>
          <p:cNvGrpSpPr/>
          <p:nvPr/>
        </p:nvGrpSpPr>
        <p:grpSpPr>
          <a:xfrm>
            <a:off x="1849320" y="4626000"/>
            <a:ext cx="2699280" cy="398880"/>
            <a:chOff x="1849320" y="4626000"/>
            <a:chExt cx="2699280" cy="398880"/>
          </a:xfrm>
        </p:grpSpPr>
        <p:sp>
          <p:nvSpPr>
            <p:cNvPr id="939" name=""/>
            <p:cNvSpPr/>
            <p:nvPr/>
          </p:nvSpPr>
          <p:spPr>
            <a:xfrm>
              <a:off x="2088000" y="4626000"/>
              <a:ext cx="2460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equilibri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849320" y="4757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41" name=""/>
          <p:cNvCxnSpPr>
            <a:stCxn id="914" idx="2"/>
            <a:endCxn id="940" idx="2"/>
          </p:cNvCxnSpPr>
          <p:nvPr/>
        </p:nvCxnSpPr>
        <p:spPr>
          <a:xfrm flipH="1" rot="16200000">
            <a:off x="-4680" y="3025440"/>
            <a:ext cx="311688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Analysi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9320" y="878040"/>
            <a:ext cx="86677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Analysis Model information is contained primarily in 3 of the 17 ‘subject areas’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. Decompos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2. Project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3. Structural Model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4. Loa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5. Structural Respon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6. Par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7.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8. Joint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9. Materi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765680" y="1838160"/>
            <a:ext cx="403848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0.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1. Grou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2.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3. Units &amp;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4. Items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5. Product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6. Process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7. Data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9440" y="2690640"/>
            <a:ext cx="3767040" cy="1314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962000" y="2517840"/>
            <a:ext cx="3318120" cy="2741040"/>
            <a:chOff x="1962000" y="2517840"/>
            <a:chExt cx="3318120" cy="2741040"/>
          </a:xfrm>
        </p:grpSpPr>
        <p:sp>
          <p:nvSpPr>
            <p:cNvPr id="144" name=""/>
            <p:cNvSpPr/>
            <p:nvPr/>
          </p:nvSpPr>
          <p:spPr>
            <a:xfrm flipH="1">
              <a:off x="4430520" y="2517840"/>
              <a:ext cx="820440" cy="2743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4444920" y="2935080"/>
              <a:ext cx="820800" cy="274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4459320" y="3267000"/>
              <a:ext cx="820800" cy="274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1962000" y="4076280"/>
              <a:ext cx="0" cy="1182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Resul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2004840" y="1739880"/>
            <a:ext cx="2673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47760" y="1104840"/>
            <a:ext cx="1867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5" name=""/>
          <p:cNvCxnSpPr>
            <a:stCxn id="943" idx="2"/>
            <a:endCxn id="946" idx="2"/>
          </p:cNvCxnSpPr>
          <p:nvPr/>
        </p:nvCxnSpPr>
        <p:spPr>
          <a:xfrm flipH="1" rot="16200000">
            <a:off x="4752720" y="767160"/>
            <a:ext cx="456120" cy="3280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47" name=""/>
          <p:cNvSpPr/>
          <p:nvPr/>
        </p:nvSpPr>
        <p:spPr>
          <a:xfrm>
            <a:off x="3867120" y="3300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8" name=""/>
          <p:cNvCxnSpPr>
            <a:stCxn id="944" idx="2"/>
            <a:endCxn id="949" idx="2"/>
          </p:cNvCxnSpPr>
          <p:nvPr/>
        </p:nvCxnSpPr>
        <p:spPr>
          <a:xfrm flipH="1" rot="16200000">
            <a:off x="621360" y="2204640"/>
            <a:ext cx="1803960" cy="483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50" name=""/>
          <p:cNvSpPr/>
          <p:nvPr/>
        </p:nvSpPr>
        <p:spPr>
          <a:xfrm>
            <a:off x="2178000" y="3330720"/>
            <a:ext cx="37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1781280" y="1855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019240" y="3122640"/>
            <a:ext cx="19670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element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1793880" y="32544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3" name=""/>
          <p:cNvCxnSpPr>
            <a:stCxn id="944" idx="2"/>
            <a:endCxn id="951" idx="2"/>
          </p:cNvCxnSpPr>
          <p:nvPr/>
        </p:nvCxnSpPr>
        <p:spPr>
          <a:xfrm flipH="1" rot="16200000">
            <a:off x="1314360" y="1512000"/>
            <a:ext cx="405360" cy="470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54" name=""/>
          <p:cNvSpPr/>
          <p:nvPr/>
        </p:nvSpPr>
        <p:spPr>
          <a:xfrm>
            <a:off x="6694200" y="1708200"/>
            <a:ext cx="108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5" name=""/>
          <p:cNvCxnSpPr>
            <a:stCxn id="943" idx="3"/>
            <a:endCxn id="956" idx="2"/>
          </p:cNvCxnSpPr>
          <p:nvPr/>
        </p:nvCxnSpPr>
        <p:spPr>
          <a:xfrm flipV="1">
            <a:off x="4692600" y="1942920"/>
            <a:ext cx="181512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57" name=""/>
          <p:cNvSpPr/>
          <p:nvPr/>
        </p:nvSpPr>
        <p:spPr>
          <a:xfrm>
            <a:off x="2870640" y="938160"/>
            <a:ext cx="21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s_for_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521400" y="18669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815880" y="240336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635880" y="25588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232520" y="2276640"/>
            <a:ext cx="17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for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7005240" y="3090960"/>
            <a:ext cx="17946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1" name=""/>
          <p:cNvCxnSpPr>
            <a:stCxn id="952" idx="3"/>
            <a:endCxn id="962" idx="2"/>
          </p:cNvCxnSpPr>
          <p:nvPr/>
        </p:nvCxnSpPr>
        <p:spPr>
          <a:xfrm flipV="1">
            <a:off x="4000320" y="3482280"/>
            <a:ext cx="278820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63" name=""/>
          <p:cNvSpPr/>
          <p:nvPr/>
        </p:nvSpPr>
        <p:spPr>
          <a:xfrm>
            <a:off x="4092120" y="3124080"/>
            <a:ext cx="270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for_element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802560" y="34066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84888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058080" y="1106640"/>
            <a:ext cx="2093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6" name=""/>
          <p:cNvCxnSpPr>
            <a:stCxn id="944" idx="3"/>
            <a:endCxn id="967" idx="2"/>
          </p:cNvCxnSpPr>
          <p:nvPr/>
        </p:nvCxnSpPr>
        <p:spPr>
          <a:xfrm>
            <a:off x="2243160" y="1317240"/>
            <a:ext cx="360288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67" name=""/>
          <p:cNvSpPr/>
          <p:nvPr/>
        </p:nvSpPr>
        <p:spPr>
          <a:xfrm>
            <a:off x="5859360" y="12463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894200" y="158436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013120" y="4232160"/>
            <a:ext cx="2977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808280" y="4524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1" name=""/>
          <p:cNvCxnSpPr>
            <a:stCxn id="944" idx="2"/>
            <a:endCxn id="970" idx="2"/>
          </p:cNvCxnSpPr>
          <p:nvPr/>
        </p:nvCxnSpPr>
        <p:spPr>
          <a:xfrm flipH="1" rot="16200000">
            <a:off x="-5760" y="2832480"/>
            <a:ext cx="3074040" cy="497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Results (Element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1403280" y="3368520"/>
            <a:ext cx="3916080" cy="398880"/>
            <a:chOff x="1403280" y="3368520"/>
            <a:chExt cx="3916080" cy="398880"/>
          </a:xfrm>
        </p:grpSpPr>
        <p:sp>
          <p:nvSpPr>
            <p:cNvPr id="974" name=""/>
            <p:cNvSpPr/>
            <p:nvPr/>
          </p:nvSpPr>
          <p:spPr>
            <a:xfrm>
              <a:off x="1638000" y="3368520"/>
              <a:ext cx="368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403280" y="3500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6" name=""/>
          <p:cNvGrpSpPr/>
          <p:nvPr/>
        </p:nvGrpSpPr>
        <p:grpSpPr>
          <a:xfrm>
            <a:off x="1403280" y="5778360"/>
            <a:ext cx="4114080" cy="413280"/>
            <a:chOff x="1403280" y="5778360"/>
            <a:chExt cx="4114080" cy="413280"/>
          </a:xfrm>
        </p:grpSpPr>
        <p:sp>
          <p:nvSpPr>
            <p:cNvPr id="977" name=""/>
            <p:cNvSpPr/>
            <p:nvPr/>
          </p:nvSpPr>
          <p:spPr>
            <a:xfrm>
              <a:off x="1639440" y="5792760"/>
              <a:ext cx="3877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403280" y="59389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527640" y="5778360"/>
              <a:ext cx="15876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0" name=""/>
          <p:cNvGrpSpPr/>
          <p:nvPr/>
        </p:nvGrpSpPr>
        <p:grpSpPr>
          <a:xfrm>
            <a:off x="1403280" y="4573440"/>
            <a:ext cx="4113360" cy="398880"/>
            <a:chOff x="1403280" y="4573440"/>
            <a:chExt cx="4113360" cy="398880"/>
          </a:xfrm>
        </p:grpSpPr>
        <p:sp>
          <p:nvSpPr>
            <p:cNvPr id="981" name=""/>
            <p:cNvSpPr/>
            <p:nvPr/>
          </p:nvSpPr>
          <p:spPr>
            <a:xfrm>
              <a:off x="1623600" y="4573440"/>
              <a:ext cx="3893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403280" y="4705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3" name=""/>
          <p:cNvGrpSpPr/>
          <p:nvPr/>
        </p:nvGrpSpPr>
        <p:grpSpPr>
          <a:xfrm>
            <a:off x="1432080" y="2165400"/>
            <a:ext cx="3844800" cy="398880"/>
            <a:chOff x="1432080" y="2165400"/>
            <a:chExt cx="3844800" cy="398880"/>
          </a:xfrm>
        </p:grpSpPr>
        <p:sp>
          <p:nvSpPr>
            <p:cNvPr id="984" name=""/>
            <p:cNvSpPr/>
            <p:nvPr/>
          </p:nvSpPr>
          <p:spPr>
            <a:xfrm>
              <a:off x="1668600" y="2165400"/>
              <a:ext cx="3608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432080" y="229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6" name=""/>
          <p:cNvSpPr/>
          <p:nvPr/>
        </p:nvSpPr>
        <p:spPr>
          <a:xfrm>
            <a:off x="237960" y="982800"/>
            <a:ext cx="29782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7" name=""/>
          <p:cNvCxnSpPr>
            <a:stCxn id="988" idx="2"/>
            <a:endCxn id="975" idx="2"/>
          </p:cNvCxnSpPr>
          <p:nvPr/>
        </p:nvCxnSpPr>
        <p:spPr>
          <a:xfrm flipH="1" rot="16200000">
            <a:off x="167040" y="2387160"/>
            <a:ext cx="1877400" cy="537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89" name=""/>
          <p:cNvCxnSpPr>
            <a:stCxn id="988" idx="2"/>
            <a:endCxn id="978" idx="2"/>
          </p:cNvCxnSpPr>
          <p:nvPr/>
        </p:nvCxnSpPr>
        <p:spPr>
          <a:xfrm flipH="1" rot="16200000">
            <a:off x="-1051920" y="3606480"/>
            <a:ext cx="4315680" cy="537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90" name=""/>
          <p:cNvSpPr/>
          <p:nvPr/>
        </p:nvSpPr>
        <p:spPr>
          <a:xfrm>
            <a:off x="360000" y="181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1" name=""/>
          <p:cNvCxnSpPr>
            <a:stCxn id="988" idx="2"/>
            <a:endCxn id="982" idx="2"/>
          </p:cNvCxnSpPr>
          <p:nvPr/>
        </p:nvCxnSpPr>
        <p:spPr>
          <a:xfrm flipH="1" rot="16200000">
            <a:off x="-435240" y="2989800"/>
            <a:ext cx="3082320" cy="537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92" name=""/>
          <p:cNvCxnSpPr>
            <a:stCxn id="988" idx="2"/>
            <a:endCxn id="985" idx="2"/>
          </p:cNvCxnSpPr>
          <p:nvPr/>
        </p:nvCxnSpPr>
        <p:spPr>
          <a:xfrm flipH="1" rot="16200000">
            <a:off x="784080" y="1771200"/>
            <a:ext cx="673920" cy="565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88" name=""/>
          <p:cNvSpPr/>
          <p:nvPr/>
        </p:nvSpPr>
        <p:spPr>
          <a:xfrm>
            <a:off x="649440" y="1414440"/>
            <a:ext cx="3762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7416720" y="3324240"/>
            <a:ext cx="108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4" name=""/>
          <p:cNvCxnSpPr>
            <a:stCxn id="974" idx="3"/>
            <a:endCxn id="995" idx="2"/>
          </p:cNvCxnSpPr>
          <p:nvPr/>
        </p:nvCxnSpPr>
        <p:spPr>
          <a:xfrm flipV="1">
            <a:off x="5343120" y="3558600"/>
            <a:ext cx="1886760" cy="22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95" name=""/>
          <p:cNvSpPr/>
          <p:nvPr/>
        </p:nvSpPr>
        <p:spPr>
          <a:xfrm>
            <a:off x="7243920" y="34830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5573520" y="321480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648200" y="2152800"/>
            <a:ext cx="108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8" name=""/>
          <p:cNvCxnSpPr>
            <a:stCxn id="984" idx="3"/>
            <a:endCxn id="999" idx="2"/>
          </p:cNvCxnSpPr>
          <p:nvPr/>
        </p:nvCxnSpPr>
        <p:spPr>
          <a:xfrm>
            <a:off x="5302080" y="2378160"/>
            <a:ext cx="216000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99" name=""/>
          <p:cNvSpPr/>
          <p:nvPr/>
        </p:nvSpPr>
        <p:spPr>
          <a:xfrm>
            <a:off x="7475400" y="23115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591160" y="198612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Results Set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1300320" y="3025800"/>
            <a:ext cx="20970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s_set_comb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074600" y="32860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1074600" y="5778360"/>
            <a:ext cx="4255560" cy="413280"/>
            <a:chOff x="1074600" y="5778360"/>
            <a:chExt cx="4255560" cy="413280"/>
          </a:xfrm>
        </p:grpSpPr>
        <p:sp>
          <p:nvSpPr>
            <p:cNvPr id="1005" name=""/>
            <p:cNvSpPr/>
            <p:nvPr/>
          </p:nvSpPr>
          <p:spPr>
            <a:xfrm>
              <a:off x="1308960" y="5792760"/>
              <a:ext cx="4021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s_set_redistribu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074600" y="59389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198960" y="5778360"/>
              <a:ext cx="15876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8" name=""/>
          <p:cNvGrpSpPr/>
          <p:nvPr/>
        </p:nvGrpSpPr>
        <p:grpSpPr>
          <a:xfrm>
            <a:off x="1074600" y="4573440"/>
            <a:ext cx="3875040" cy="398880"/>
            <a:chOff x="1074600" y="4573440"/>
            <a:chExt cx="3875040" cy="398880"/>
          </a:xfrm>
        </p:grpSpPr>
        <p:sp>
          <p:nvSpPr>
            <p:cNvPr id="1009" name=""/>
            <p:cNvSpPr/>
            <p:nvPr/>
          </p:nvSpPr>
          <p:spPr>
            <a:xfrm>
              <a:off x="1295640" y="4573440"/>
              <a:ext cx="3654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s_set_envelo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074600" y="4705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1" name=""/>
          <p:cNvGrpSpPr/>
          <p:nvPr/>
        </p:nvGrpSpPr>
        <p:grpSpPr>
          <a:xfrm>
            <a:off x="1103400" y="2165400"/>
            <a:ext cx="3450600" cy="398880"/>
            <a:chOff x="1103400" y="2165400"/>
            <a:chExt cx="3450600" cy="398880"/>
          </a:xfrm>
        </p:grpSpPr>
        <p:sp>
          <p:nvSpPr>
            <p:cNvPr id="1012" name=""/>
            <p:cNvSpPr/>
            <p:nvPr/>
          </p:nvSpPr>
          <p:spPr>
            <a:xfrm>
              <a:off x="1338840" y="2165400"/>
              <a:ext cx="32151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s_set_bas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103400" y="229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4" name=""/>
          <p:cNvSpPr/>
          <p:nvPr/>
        </p:nvSpPr>
        <p:spPr>
          <a:xfrm>
            <a:off x="237960" y="982800"/>
            <a:ext cx="2560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s_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5" name=""/>
          <p:cNvCxnSpPr>
            <a:stCxn id="1016" idx="2"/>
            <a:endCxn id="1003" idx="2"/>
          </p:cNvCxnSpPr>
          <p:nvPr/>
        </p:nvCxnSpPr>
        <p:spPr>
          <a:xfrm flipH="1" rot="16200000">
            <a:off x="-38880" y="2294280"/>
            <a:ext cx="1962720" cy="20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17" name=""/>
          <p:cNvCxnSpPr>
            <a:stCxn id="1016" idx="2"/>
            <a:endCxn id="1006" idx="2"/>
          </p:cNvCxnSpPr>
          <p:nvPr/>
        </p:nvCxnSpPr>
        <p:spPr>
          <a:xfrm flipH="1" rot="16200000">
            <a:off x="-1365480" y="3620520"/>
            <a:ext cx="4615560" cy="20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018" name=""/>
          <p:cNvSpPr/>
          <p:nvPr/>
        </p:nvSpPr>
        <p:spPr>
          <a:xfrm>
            <a:off x="360000" y="181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9" name=""/>
          <p:cNvCxnSpPr>
            <a:stCxn id="1016" idx="2"/>
            <a:endCxn id="1010" idx="2"/>
          </p:cNvCxnSpPr>
          <p:nvPr/>
        </p:nvCxnSpPr>
        <p:spPr>
          <a:xfrm flipH="1" rot="16200000">
            <a:off x="-748800" y="3003840"/>
            <a:ext cx="3382200" cy="20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0" name=""/>
          <p:cNvCxnSpPr>
            <a:stCxn id="1016" idx="2"/>
            <a:endCxn id="1013" idx="2"/>
          </p:cNvCxnSpPr>
          <p:nvPr/>
        </p:nvCxnSpPr>
        <p:spPr>
          <a:xfrm flipH="1" rot="16200000">
            <a:off x="468720" y="1785600"/>
            <a:ext cx="973800" cy="237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016" name=""/>
          <p:cNvSpPr/>
          <p:nvPr/>
        </p:nvSpPr>
        <p:spPr>
          <a:xfrm>
            <a:off x="649440" y="1114560"/>
            <a:ext cx="3762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382800" y="3166920"/>
            <a:ext cx="2517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ing_comb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2" name=""/>
          <p:cNvCxnSpPr>
            <a:stCxn id="1002" idx="3"/>
            <a:endCxn id="1023" idx="2"/>
          </p:cNvCxnSpPr>
          <p:nvPr/>
        </p:nvCxnSpPr>
        <p:spPr>
          <a:xfrm flipV="1">
            <a:off x="3411000" y="3386880"/>
            <a:ext cx="275364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23" name=""/>
          <p:cNvSpPr/>
          <p:nvPr/>
        </p:nvSpPr>
        <p:spPr>
          <a:xfrm>
            <a:off x="6178680" y="33116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458160" y="3011400"/>
            <a:ext cx="2662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ading_combination_r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7524360" y="2152800"/>
            <a:ext cx="13435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6" name=""/>
          <p:cNvCxnSpPr>
            <a:stCxn id="1012" idx="3"/>
            <a:endCxn id="1027" idx="2"/>
          </p:cNvCxnSpPr>
          <p:nvPr/>
        </p:nvCxnSpPr>
        <p:spPr>
          <a:xfrm>
            <a:off x="4578120" y="2378160"/>
            <a:ext cx="272628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27" name=""/>
          <p:cNvSpPr/>
          <p:nvPr/>
        </p:nvSpPr>
        <p:spPr>
          <a:xfrm>
            <a:off x="7318440" y="2311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4920480" y="1986120"/>
            <a:ext cx="187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asic_load_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673680" y="982800"/>
            <a:ext cx="20275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0" name=""/>
          <p:cNvCxnSpPr>
            <a:stCxn id="1014" idx="3"/>
            <a:endCxn id="1031" idx="2"/>
          </p:cNvCxnSpPr>
          <p:nvPr/>
        </p:nvCxnSpPr>
        <p:spPr>
          <a:xfrm>
            <a:off x="2813040" y="1195560"/>
            <a:ext cx="368064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31" name=""/>
          <p:cNvSpPr/>
          <p:nvPr/>
        </p:nvSpPr>
        <p:spPr>
          <a:xfrm>
            <a:off x="6507000" y="112860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368160" y="831960"/>
            <a:ext cx="283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results S 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3" name=""/>
          <p:cNvCxnSpPr>
            <a:stCxn id="1034" idx="4"/>
            <a:endCxn id="1009" idx="0"/>
          </p:cNvCxnSpPr>
          <p:nvPr/>
        </p:nvCxnSpPr>
        <p:spPr>
          <a:xfrm flipH="1" rot="16200000">
            <a:off x="2394720" y="3831120"/>
            <a:ext cx="619920" cy="837360"/>
          </a:xfrm>
          <a:prstGeom prst="bentConnector3">
            <a:avLst>
              <a:gd name="adj1" fmla="val 4997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035" name=""/>
          <p:cNvSpPr/>
          <p:nvPr/>
        </p:nvSpPr>
        <p:spPr>
          <a:xfrm>
            <a:off x="2414520" y="387828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bin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2209680" y="3773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Analysi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60240" indent="-660240">
              <a:spcBef>
                <a:spcPts val="11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tructural Modell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marL="660240" indent="-660240">
              <a:spcBef>
                <a:spcPts val="11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oad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marL="660240" indent="-660240">
              <a:spcBef>
                <a:spcPts val="11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tructural Respons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92240" y="3421080"/>
            <a:ext cx="2743200" cy="2668680"/>
            <a:chOff x="192240" y="3421080"/>
            <a:chExt cx="2743200" cy="2668680"/>
          </a:xfrm>
        </p:grpSpPr>
        <p:sp>
          <p:nvSpPr>
            <p:cNvPr id="151" name=""/>
            <p:cNvSpPr/>
            <p:nvPr/>
          </p:nvSpPr>
          <p:spPr>
            <a:xfrm>
              <a:off x="192240" y="34210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7920" y="51418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6583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Structural Modelling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208080" y="3484440"/>
            <a:ext cx="2743200" cy="2668680"/>
            <a:chOff x="208080" y="3484440"/>
            <a:chExt cx="2743200" cy="2668680"/>
          </a:xfrm>
        </p:grpSpPr>
        <p:sp>
          <p:nvSpPr>
            <p:cNvPr id="155" name=""/>
            <p:cNvSpPr/>
            <p:nvPr/>
          </p:nvSpPr>
          <p:spPr>
            <a:xfrm>
              <a:off x="208080" y="34844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93760" y="520524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50840" y="38160"/>
            <a:ext cx="7075440" cy="61959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733640" y="4190760"/>
            <a:ext cx="3902040" cy="2043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is_metho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is_mod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lemen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nod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352600" y="1090440"/>
            <a:ext cx="5613480" cy="511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Analysis Mod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438280" y="1692360"/>
          <a:ext cx="5427720" cy="44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692360"/>
                    <a:ext cx="5427720" cy="44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258120" y="277956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02320" y="413856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160" y="552924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65280" y="32259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9960" y="3233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" name=""/>
          <p:cNvCxnSpPr>
            <a:stCxn id="166" idx="0"/>
            <a:endCxn id="168" idx="4"/>
          </p:cNvCxnSpPr>
          <p:nvPr/>
        </p:nvCxnSpPr>
        <p:spPr>
          <a:xfrm flipH="1" flipV="1">
            <a:off x="745920" y="3399840"/>
            <a:ext cx="8640" cy="2115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70" name=""/>
          <p:cNvCxnSpPr>
            <a:stCxn id="165" idx="0"/>
            <a:endCxn id="167" idx="4"/>
          </p:cNvCxnSpPr>
          <p:nvPr/>
        </p:nvCxnSpPr>
        <p:spPr>
          <a:xfrm flipH="1" flipV="1">
            <a:off x="1640880" y="3392280"/>
            <a:ext cx="5400" cy="732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777240" y="100980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329720" y="1009800"/>
            <a:ext cx="2603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34840" y="2165400"/>
            <a:ext cx="29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loc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59360" y="19652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" name=""/>
          <p:cNvCxnSpPr>
            <a:stCxn id="171" idx="2"/>
            <a:endCxn id="174" idx="0"/>
          </p:cNvCxnSpPr>
          <p:nvPr/>
        </p:nvCxnSpPr>
        <p:spPr>
          <a:xfrm flipH="1" rot="16200000">
            <a:off x="2705040" y="489600"/>
            <a:ext cx="488160" cy="240732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76" name=""/>
          <p:cNvSpPr/>
          <p:nvPr/>
        </p:nvSpPr>
        <p:spPr>
          <a:xfrm>
            <a:off x="1633680" y="835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"/>
          <p:cNvCxnSpPr>
            <a:stCxn id="172" idx="0"/>
            <a:endCxn id="176" idx="0"/>
          </p:cNvCxnSpPr>
          <p:nvPr/>
        </p:nvCxnSpPr>
        <p:spPr>
          <a:xfrm flipV="1" rot="16200000">
            <a:off x="3583080" y="-1054080"/>
            <a:ext cx="175320" cy="3923640"/>
          </a:xfrm>
          <a:prstGeom prst="bentConnector3">
            <a:avLst>
              <a:gd name="adj1" fmla="val 22263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78" name=""/>
          <p:cNvSpPr/>
          <p:nvPr/>
        </p:nvSpPr>
        <p:spPr>
          <a:xfrm>
            <a:off x="2722680" y="225360"/>
            <a:ext cx="157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"/>
          <p:cNvCxnSpPr>
            <a:stCxn id="173" idx="3"/>
            <a:endCxn id="180" idx="2"/>
          </p:cNvCxnSpPr>
          <p:nvPr/>
        </p:nvCxnSpPr>
        <p:spPr>
          <a:xfrm>
            <a:off x="5562360" y="2377800"/>
            <a:ext cx="116892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714640" y="2019240"/>
            <a:ext cx="96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6745320" y="2143080"/>
            <a:ext cx="1964520" cy="398880"/>
            <a:chOff x="6745320" y="2143080"/>
            <a:chExt cx="1964520" cy="398880"/>
          </a:xfrm>
        </p:grpSpPr>
        <p:sp>
          <p:nvSpPr>
            <p:cNvPr id="180" name=""/>
            <p:cNvSpPr/>
            <p:nvPr/>
          </p:nvSpPr>
          <p:spPr>
            <a:xfrm>
              <a:off x="6745320" y="2305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941160" y="2143080"/>
              <a:ext cx="1768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ord_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4" name=""/>
          <p:cNvCxnSpPr>
            <a:stCxn id="171" idx="3"/>
            <a:endCxn id="185" idx="2"/>
          </p:cNvCxnSpPr>
          <p:nvPr/>
        </p:nvCxnSpPr>
        <p:spPr>
          <a:xfrm>
            <a:off x="2742840" y="1221840"/>
            <a:ext cx="1360800" cy="39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4132440" y="114948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0160" y="4284720"/>
            <a:ext cx="2093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85760" y="4113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" name=""/>
          <p:cNvCxnSpPr>
            <a:stCxn id="189" idx="2"/>
            <a:endCxn id="187" idx="0"/>
          </p:cNvCxnSpPr>
          <p:nvPr/>
        </p:nvCxnSpPr>
        <p:spPr>
          <a:xfrm>
            <a:off x="1161720" y="1414080"/>
            <a:ext cx="1080" cy="268524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89" name=""/>
          <p:cNvSpPr/>
          <p:nvPr/>
        </p:nvSpPr>
        <p:spPr>
          <a:xfrm>
            <a:off x="1052640" y="1227240"/>
            <a:ext cx="2174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7520" y="3573360"/>
            <a:ext cx="2208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thod_of_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23280" y="5456160"/>
            <a:ext cx="20934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699240" y="52275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86" idx="2"/>
            <a:endCxn id="192" idx="0"/>
          </p:cNvCxnSpPr>
          <p:nvPr/>
        </p:nvCxnSpPr>
        <p:spPr>
          <a:xfrm flipH="1" rot="16200000">
            <a:off x="3781800" y="2188800"/>
            <a:ext cx="475560" cy="554580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94" name=""/>
          <p:cNvSpPr/>
          <p:nvPr/>
        </p:nvSpPr>
        <p:spPr>
          <a:xfrm>
            <a:off x="3070080" y="5454720"/>
            <a:ext cx="2235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eudo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33880" y="52401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" name=""/>
          <p:cNvCxnSpPr>
            <a:stCxn id="186" idx="2"/>
            <a:endCxn id="195" idx="0"/>
          </p:cNvCxnSpPr>
          <p:nvPr/>
        </p:nvCxnSpPr>
        <p:spPr>
          <a:xfrm flipH="1" rot="16200000">
            <a:off x="2493000" y="3477960"/>
            <a:ext cx="488160" cy="298044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86" idx="2"/>
            <a:endCxn id="198" idx="0"/>
          </p:cNvCxnSpPr>
          <p:nvPr/>
        </p:nvCxnSpPr>
        <p:spPr>
          <a:xfrm flipH="1" rot="16200000">
            <a:off x="1150920" y="4820760"/>
            <a:ext cx="473760" cy="280080"/>
          </a:xfrm>
          <a:prstGeom prst="bentConnector3">
            <a:avLst>
              <a:gd name="adj1" fmla="val 5133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455760" y="5425920"/>
            <a:ext cx="20934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st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433520" y="52261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90280" y="4740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828520" y="3389400"/>
            <a:ext cx="3056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m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201" idx="3"/>
            <a:endCxn id="203" idx="2"/>
          </p:cNvCxnSpPr>
          <p:nvPr/>
        </p:nvCxnSpPr>
        <p:spPr>
          <a:xfrm>
            <a:off x="5911920" y="3601800"/>
            <a:ext cx="153576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4" name=""/>
          <p:cNvSpPr/>
          <p:nvPr/>
        </p:nvSpPr>
        <p:spPr>
          <a:xfrm>
            <a:off x="6011640" y="3220920"/>
            <a:ext cx="14479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pres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_assemb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65480" y="324324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461360" y="35305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371600" y="14526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" name=""/>
          <p:cNvCxnSpPr>
            <a:stCxn id="201" idx="0"/>
            <a:endCxn id="206" idx="4"/>
          </p:cNvCxnSpPr>
          <p:nvPr/>
        </p:nvCxnSpPr>
        <p:spPr>
          <a:xfrm flipV="1" rot="16200000">
            <a:off x="2024280" y="1041480"/>
            <a:ext cx="1756440" cy="2910240"/>
          </a:xfrm>
          <a:prstGeom prst="bentConnector3">
            <a:avLst>
              <a:gd name="adj1" fmla="val 1789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1456200" y="2708280"/>
            <a:ext cx="27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pped_analysis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Andrew Crowley</dc:creator>
  <dc:description/>
  <dc:language>en-US</dc:language>
  <cp:lastModifiedBy>Andrew Crowley</cp:lastModifiedBy>
  <dcterms:modified xsi:type="dcterms:W3CDTF">2000-08-31T10:27:59Z</dcterms:modified>
  <cp:revision>103</cp:revision>
  <dc:subject/>
  <dc:title>LPM/5 - Analysis Constructs</dc:title>
</cp:coreProperties>
</file>